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6FDF-E955-47D5-BB80-8DB7F2D16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415404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AB0D-C60E-415D-80A6-C3DB726B9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1447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415404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3720" y="415404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AED2-2705-4FE0-A355-08ABCAD17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9440" y="14475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4840" y="14475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415404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9440" y="415404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4840" y="415404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B7454-1D61-4867-B5DF-9D059D8DD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FD725-AF9F-4641-ABE5-A54203B5FB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0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295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9AC75-95DA-41FB-9B8C-8DACBF0FAA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4E49C-D155-46C5-8A47-4748E579F3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3904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3720" y="1447560"/>
            <a:ext cx="3904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62D89-218D-462F-AD09-3166FE9FAF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A9110-739F-404D-BAF2-6734E83E24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295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4B58E-9CCE-4A75-A824-63C37FF52F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447560"/>
            <a:ext cx="3904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040" y="415404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194D2-F232-4054-9537-0DAC1F0A39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295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9DAD-79D5-496B-8920-93CD28804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3904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447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3720" y="415404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5F002-F3C7-444F-B8E1-0CE03B753A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1447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5404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A022D-F53C-4FD6-8DA7-348DDC529C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040" y="415404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2C3B-4B9B-4118-80F3-4CF2129509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1447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15404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3720" y="415404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97BC6-E139-4CCF-8C06-D089E0FAC5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19440" y="14475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4840" y="14475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040" y="415404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19440" y="415404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4840" y="415404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871EF-B061-4374-BEDF-75B87CB095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DFEE-A8D6-4DDA-978A-0964DF486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3904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3720" y="1447560"/>
            <a:ext cx="3904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93EA-270B-4C02-8B54-3196A27F0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FBD9-FA7A-4478-8EB4-CCD2BDFCF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295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BEF2D-8E2E-4BC9-87CB-950B40323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447560"/>
            <a:ext cx="3904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415404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E1D8-CAFD-4F4B-870A-2B1EE1DE2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3904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447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3720" y="415404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C6F9-878C-45CA-AF41-D7BE3EF73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1447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415404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B345-5E53-47FE-9FEF-A01882F35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52480" y="1295280"/>
            <a:ext cx="7391520" cy="5531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762120"/>
            <a:ext cx="685800" cy="6095880"/>
          </a:xfrm>
          <a:prstGeom prst="rect">
            <a:avLst/>
          </a:prstGeom>
          <a:solidFill>
            <a:srgbClr val="b9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5295b7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2001"/>
              </a:spcBef>
              <a:buClr>
                <a:srgbClr val="5295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385920">
              <a:spcBef>
                <a:spcPts val="2001"/>
              </a:spcBef>
              <a:buClr>
                <a:srgbClr val="5295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8920" indent="-285840">
              <a:spcBef>
                <a:spcPts val="2001"/>
              </a:spcBef>
              <a:buClr>
                <a:srgbClr val="5295b7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95480" indent="-276120">
              <a:spcBef>
                <a:spcPts val="2001"/>
              </a:spcBef>
              <a:buClr>
                <a:srgbClr val="5295b7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473200" indent="-287280">
              <a:spcBef>
                <a:spcPts val="2001"/>
              </a:spcBef>
              <a:buClr>
                <a:srgbClr val="5295b7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473200" indent="-287280">
              <a:spcBef>
                <a:spcPts val="200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473200" indent="-287280">
              <a:spcBef>
                <a:spcPts val="200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171840"/>
            <a:ext cx="685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CD36-B91B-4151-9909-F6411DA06405}" type="slidenum">
              <a:rPr b="0" lang="fr-FR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077320" y="6400800"/>
          <a:ext cx="838080" cy="24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77320" y="6400800"/>
                    <a:ext cx="83808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76520" y="3137040"/>
            <a:ext cx="7467480" cy="3717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720" y="0"/>
            <a:ext cx="685800" cy="6858000"/>
          </a:xfrm>
          <a:prstGeom prst="rect">
            <a:avLst/>
          </a:prstGeom>
          <a:solidFill>
            <a:srgbClr val="b9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9144000" cy="1143000"/>
          </a:xfrm>
          <a:prstGeom prst="rect">
            <a:avLst/>
          </a:prstGeom>
          <a:solidFill>
            <a:srgbClr val="5295b7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2"/>
          </p:nvPr>
        </p:nvSpPr>
        <p:spPr>
          <a:xfrm>
            <a:off x="1066320" y="6171840"/>
            <a:ext cx="685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67FF-FBA5-4D0E-A5D6-98EF13F9A3E2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514600" y="228600"/>
          <a:ext cx="4952880" cy="14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28600"/>
                    <a:ext cx="495288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295b7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5295b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295b7"/>
              </a:buClr>
              <a:buFont typeface="Monotype Sort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295b7"/>
              </a:buClr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5295b7"/>
              </a:buClr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1371600"/>
          </a:xfrm>
          <a:prstGeom prst="rect">
            <a:avLst/>
          </a:prstGeom>
          <a:solidFill>
            <a:srgbClr val="5295b7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’EURO FÊTE SON 10</a:t>
            </a:r>
            <a:r>
              <a:rPr b="0" lang="fr-LU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NNIVERSAIRE</a:t>
            </a:r>
            <a:br>
              <a:rPr sz="28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fr-LU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CL </a:t>
            </a:r>
            <a:r>
              <a:rPr b="0" lang="fr-LU" sz="2400" spc="-1" strike="noStrike">
                <a:solidFill>
                  <a:srgbClr val="ffffff"/>
                </a:solidFill>
                <a:latin typeface="Arial"/>
              </a:rPr>
              <a:t>au service de l’économie et des citoyens luxembourgeois</a:t>
            </a:r>
            <a:br>
              <a:rPr sz="2400"/>
            </a:br>
            <a:r>
              <a:rPr b="0" i="1" lang="fr-LU" sz="1800" spc="-1" strike="noStrike">
                <a:solidFill>
                  <a:srgbClr val="ffffff"/>
                </a:solidFill>
                <a:latin typeface="Arial"/>
              </a:rPr>
              <a:t>par Monsieur Yves Mersch, Président de la B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915040" y="6629040"/>
            <a:ext cx="2286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295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B2A6-6595-498B-BC00-B2F0B7AE7354}" type="slidenum">
              <a:t>1</a:t>
            </a:fld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5295b7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ffffff"/>
                </a:solidFill>
                <a:latin typeface="Arial"/>
              </a:rPr>
              <a:t>Impact du secteur financier sur l’économie luxembourgeo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95280" y="1828800"/>
          <a:ext cx="7010280" cy="358092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79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 Dire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 Indire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pulation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venus publ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1053720" y="5791320"/>
            <a:ext cx="72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400" spc="-1" strike="noStrike">
                <a:solidFill>
                  <a:srgbClr val="000000"/>
                </a:solidFill>
                <a:latin typeface="Arial"/>
              </a:rPr>
              <a:t>Source: Etude CODEPLAFI, chiffres fin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400" spc="-1" strike="noStrike">
                <a:solidFill>
                  <a:srgbClr val="000000"/>
                </a:solidFill>
                <a:latin typeface="Arial"/>
              </a:rPr>
              <a:t>Le secteur financier comprend : banques, PSF, fonds d’investissement, assur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BD552-674F-415F-B18E-8FC7431BE5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5295b7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volution de</a:t>
            </a:r>
            <a:r>
              <a:rPr b="0" lang="fr-LU" sz="36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ffectif</a:t>
            </a:r>
            <a:r>
              <a:rPr b="0" lang="fr-LU" sz="3600" spc="-1" strike="noStrike">
                <a:solidFill>
                  <a:srgbClr val="ffffff"/>
                </a:solidFill>
                <a:latin typeface="Arial"/>
              </a:rPr>
              <a:t>s de la B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3880" y="1447920"/>
          <a:ext cx="5664240" cy="5029200"/>
        </p:xfrm>
        <a:graphic>
          <a:graphicData uri="http://schemas.openxmlformats.org/drawingml/2006/table">
            <a:tbl>
              <a:tblPr/>
              <a:tblGrid>
                <a:gridCol w="844560"/>
                <a:gridCol w="1098720"/>
                <a:gridCol w="958680"/>
                <a:gridCol w="1073160"/>
                <a:gridCol w="959040"/>
                <a:gridCol w="73008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9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8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8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4388-FCFF-44C4-A6C1-B5917D519B6C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5295b7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ffffff"/>
                </a:solidFill>
                <a:latin typeface="Arial"/>
              </a:rPr>
              <a:t>Quel contexte en 2012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2001"/>
              </a:spcBef>
              <a:buClr>
                <a:srgbClr val="5295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Arial"/>
              </a:rPr>
              <a:t>Le cadre européen au sens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5295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Arial"/>
              </a:rPr>
              <a:t>Le cadre de l’Eurosystè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5295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Arial"/>
              </a:rPr>
              <a:t>Le cadre des décisions déjà prises par l’Eurosystè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4EAB-6042-4835-9AD5-5D06E7F2303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5295b7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ffffff"/>
                </a:solidFill>
                <a:latin typeface="Arial"/>
              </a:rPr>
              <a:t>Le cadre europé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2001"/>
              </a:spcBef>
              <a:buClr>
                <a:srgbClr val="5295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Arial"/>
              </a:rPr>
              <a:t>Évolution institutionn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385920">
              <a:spcBef>
                <a:spcPts val="700"/>
              </a:spcBef>
              <a:buClr>
                <a:srgbClr val="5295b7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Arial"/>
              </a:rPr>
              <a:t>Traité constitu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385920">
              <a:spcBef>
                <a:spcPts val="700"/>
              </a:spcBef>
              <a:buClr>
                <a:srgbClr val="5295b7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Arial"/>
              </a:rPr>
              <a:t>Elargis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5295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Arial"/>
              </a:rPr>
              <a:t>Evolution économ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385920">
              <a:spcBef>
                <a:spcPts val="700"/>
              </a:spcBef>
              <a:buClr>
                <a:srgbClr val="5295b7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Arial"/>
              </a:rPr>
              <a:t>Ouverture et européanisation des march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385920">
              <a:spcBef>
                <a:spcPts val="700"/>
              </a:spcBef>
              <a:buClr>
                <a:srgbClr val="5295b7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Arial"/>
              </a:rPr>
              <a:t>Nouveau budget europée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E212-221A-4D2B-9375-74F27D92C27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5295b7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ffffff"/>
                </a:solidFill>
                <a:latin typeface="Arial"/>
              </a:rPr>
              <a:t>Le cadre de l’Eurosystè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2001"/>
              </a:spcBef>
              <a:buClr>
                <a:srgbClr val="5295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Arial"/>
              </a:rPr>
              <a:t>Élargissement de la zone 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385920">
              <a:spcBef>
                <a:spcPts val="700"/>
              </a:spcBef>
              <a:buClr>
                <a:srgbClr val="5295b7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Arial"/>
              </a:rPr>
              <a:t>Fréquence de vote au Conseil des gouver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5295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Arial"/>
              </a:rPr>
              <a:t>Questions stratég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385920">
              <a:spcBef>
                <a:spcPts val="700"/>
              </a:spcBef>
              <a:buClr>
                <a:srgbClr val="5295b7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Arial"/>
              </a:rPr>
              <a:t>Centralisation – décentralisa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385920">
              <a:spcBef>
                <a:spcPts val="700"/>
              </a:spcBef>
              <a:buClr>
                <a:srgbClr val="5295b7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Arial"/>
              </a:rPr>
              <a:t>Concentration – déconcentra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385920">
              <a:spcBef>
                <a:spcPts val="700"/>
              </a:spcBef>
              <a:buClr>
                <a:srgbClr val="5295b7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Arial"/>
              </a:rPr>
              <a:t>Compétences européennes et nat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385920">
              <a:spcBef>
                <a:spcPts val="700"/>
              </a:spcBef>
              <a:buClr>
                <a:srgbClr val="5295b7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Arial"/>
              </a:rPr>
              <a:t>Interaction entre Eurosystème et autres institutions européen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4F7A-232B-47C1-9520-BE72810F32B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5295b7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ffffff"/>
                </a:solidFill>
                <a:latin typeface="Arial"/>
              </a:rPr>
              <a:t>Décisions opérationnelles de l’Eurosystè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66560" indent="-466560">
              <a:lnSpc>
                <a:spcPct val="90000"/>
              </a:lnSpc>
              <a:spcBef>
                <a:spcPts val="1749"/>
              </a:spcBef>
              <a:buClr>
                <a:srgbClr val="5295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duction de bil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1749"/>
              </a:spcBef>
              <a:buClr>
                <a:srgbClr val="5295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estion de rés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1749"/>
              </a:spcBef>
              <a:buClr>
                <a:srgbClr val="5295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aranties acceptées (crédits aux banq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1749"/>
              </a:spcBef>
              <a:buClr>
                <a:srgbClr val="5295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ate-forme commune pour les paiements de gros mon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1749"/>
              </a:spcBef>
              <a:buClr>
                <a:srgbClr val="5295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vironnement plus convivial pour le consommateur  (virements, cartes de crédit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1749"/>
              </a:spcBef>
              <a:buClr>
                <a:srgbClr val="5295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illeures informations statis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1749"/>
              </a:spcBef>
              <a:buClr>
                <a:srgbClr val="5295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ôle plus actif de l’Eurosystème: processus législatif, stabilité financ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20E7-9116-4C05-9971-E5B404D3E27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5295b7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ffffff"/>
                </a:solidFill>
                <a:latin typeface="Arial"/>
              </a:rPr>
              <a:t>Les missions de la B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2001"/>
              </a:spcBef>
              <a:buClr>
                <a:srgbClr val="5295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Arial"/>
              </a:rPr>
              <a:t>Participation aux missions de l’Eurosystè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385920">
              <a:spcBef>
                <a:spcPts val="700"/>
              </a:spcBef>
              <a:buClr>
                <a:srgbClr val="5295b7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Arial"/>
              </a:rPr>
              <a:t>Stabilité des prix: pourquoi et 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385920">
              <a:spcBef>
                <a:spcPts val="700"/>
              </a:spcBef>
              <a:buClr>
                <a:srgbClr val="5295b7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Arial"/>
              </a:rPr>
              <a:t>Stabilité financière: banques et risques systém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385920">
              <a:spcBef>
                <a:spcPts val="700"/>
              </a:spcBef>
              <a:buClr>
                <a:srgbClr val="5295b7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Arial"/>
              </a:rPr>
              <a:t>Billets et pièces en e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5295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Arial"/>
              </a:rPr>
              <a:t>Les missions nationales de la B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385920">
              <a:spcBef>
                <a:spcPts val="700"/>
              </a:spcBef>
              <a:buClr>
                <a:srgbClr val="5295b7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Arial"/>
              </a:rPr>
              <a:t>Participation au débat économique 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44DC-7915-4F36-AC88-3B1CBC4BAA9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1371600"/>
          </a:xfrm>
          <a:prstGeom prst="rect">
            <a:avLst/>
          </a:prstGeom>
          <a:solidFill>
            <a:srgbClr val="5295b7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ffffff"/>
                </a:solidFill>
                <a:latin typeface="Arial"/>
              </a:rPr>
              <a:t>Questions / Ré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15040" y="6629040"/>
            <a:ext cx="2286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295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1C9D0-A463-4B29-88CB-2ED47EFF6B10}" type="slidenum">
              <a:t>7</a:t>
            </a:fld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5295b7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ffffff"/>
                </a:solidFill>
                <a:latin typeface="Arial"/>
              </a:rPr>
              <a:t>Inflation et croiss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14400" y="1676520"/>
          <a:ext cx="8001000" cy="42670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xembou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 eu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ation (IPCH) annuelle en 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PCN = 2,2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issance annuelle en 2003 (PIB ré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issance annuelle en 2004 (PIB ré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 – 4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évis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vision de croissance pour 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 – 4,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 – 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92C1-4A3B-4A3E-9C5B-B074D8F2F79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5295b7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ffffff"/>
                </a:solidFill>
                <a:latin typeface="Arial"/>
              </a:rPr>
              <a:t>Nombre de banq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62120" y="1371600"/>
          <a:ext cx="8153280" cy="42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815328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295280" y="60199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400" spc="-1" strike="noStrike">
                <a:solidFill>
                  <a:srgbClr val="000000"/>
                </a:solidFill>
                <a:latin typeface="Times New Roman"/>
              </a:rPr>
              <a:t>162 Banques en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BDA8A-EFFC-49CA-A98E-C93F973E3B7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Guy Germeaux</dc:creator>
  <dc:description/>
  <dc:language>en-US</dc:language>
  <cp:lastModifiedBy>Lycée Technique du Centre</cp:lastModifiedBy>
  <cp:lastPrinted>2004-03-24T16:05:15Z</cp:lastPrinted>
  <dcterms:modified xsi:type="dcterms:W3CDTF">2005-04-22T14:24:16Z</dcterms:modified>
  <cp:revision>487</cp:revision>
  <dc:subject>LIPS-Gross Presentation</dc:subject>
  <dc:title>TARGET in Luxembourg</dc:title>
</cp:coreProperties>
</file>