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43BC-9BD1-4CA8-9807-9E83D510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nding up from EUR 45bn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AA Finance Instit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capital base (own funds EUR 26b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ervative Ris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udent gearing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quality loan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rehensive guarantee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hough the 1999 capital increase was meant to be sufficient for five years, the various new mandates given to the EIB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á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strong growth in its traditional operations will make an earlier capital increase necessary in order to avoid a severe disruption in EIB le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tenth capital increase will be proposed to be effective 2003; an increase of some 50-75%, with a similar paid %. Also to be met from reserves. This increase is forecast to be sufficient for the next 5 to 7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cession of new Member States will also result in a capital increase, based on the candidate countries’ relative share in EU-wide GDP at the time of entry, which is therefore likely to be limited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5 or 6 % of the existing capital and is outstripped by the increased lending requirement of the accession count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0DA-D450-4676-B890-3DDA1334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74A-0C46-416C-9BF6-2E35308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FF7-0164-4D2A-B77D-91B13808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F97-3DDA-40E2-B439-E2F8A4A9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261-6F85-4C09-A6CC-CBBDB3B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7B7-8987-4FCE-A705-3F478AE8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6E5-1F8F-4C5B-B6E6-636EB59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8F9-3986-4B8E-98A1-5A135BF6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EDA-AE03-48B2-A033-11075638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A75-B7EB-40DE-9A2B-10A3042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769-4C13-4457-8E8F-EB81352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514-0128-47B0-8D10-A6BC22A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19/04/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920" y="662904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414-13AA-4C10-BDC1-EAE057FF8A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5cab"/>
                </a:solidFill>
                <a:latin typeface="Arial"/>
              </a:rPr>
              <a:t>BANQUE EUROPÉENNE D’INVESTISSEMENT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19/04/2007</a:t>
            </a: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 – InterLycées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ww.bei.org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60760" y="475920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E87-0506-4ACF-B673-46100DBD01E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A99DC-D708-43D7-9FFE-3310830F1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600200"/>
            <a:ext cx="780084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428760" indent="-428760"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2500" spc="-1" strike="noStrike">
                <a:solidFill>
                  <a:srgbClr val="015cab"/>
                </a:solidFill>
                <a:latin typeface="Arial"/>
              </a:rPr>
              <a:t>BEI –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 Institution financière de l’Union européen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42876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réée par le Traité de Rome en 1958, elle finance par des prêts à long terme des projets contribuant à l’intégration européenne et aux objectifs de l’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apital souscrit: € 164,8 milli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Actionnaires: les 27 États membres de l’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Le Groupe BEI – La BEI et le FEI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5C2-3FA4-4393-A446-B7E35EC735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76923-9600-4888-91CA-7F4A440B5C26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5cab"/>
                </a:solidFill>
                <a:latin typeface="Arial"/>
              </a:rPr>
              <a:t>Chiffres clés 2006</a:t>
            </a:r>
            <a:br>
              <a:rPr sz="3200"/>
            </a:b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Prêts dans l’UE: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EUR 39.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Pays partenaires: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EUR   5.9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Total des prêts: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EUR 45.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Total des emprunts: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EUR 4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6BD-C4AA-4CF8-83DD-1957813E78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6D4AB-B1A0-4301-A076-85BD31E49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189000"/>
            <a:ext cx="70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Prêts en 2006 (en milliards d’eu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1027080"/>
            <a:ext cx="7129800" cy="49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DE7-87A3-464E-959B-3775138DA0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BA0DC-7E1A-4550-8D73-1CCDF70AB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Le Groupe BEI – La BEI et le FEI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0280"/>
            <a:ext cx="780084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428760" indent="-428760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2500" spc="-1" strike="noStrike">
                <a:solidFill>
                  <a:srgbClr val="015cab"/>
                </a:solidFill>
                <a:latin typeface="Arial"/>
              </a:rPr>
              <a:t>FEI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 – 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filiale du Groupe, spécialisée dans le capital-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risque et les garanties en faveur des P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428760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réé en 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Structure tripartite: BEI (61,9%), Commission    européenne (30%) et institutions financières (8,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Volume des opér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0028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000" spc="-1" strike="noStrike">
                <a:solidFill>
                  <a:srgbClr val="015cab"/>
                </a:solidFill>
                <a:latin typeface="Arial"/>
                <a:ea typeface="Times New Roman"/>
              </a:rPr>
              <a:t>€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11,1 milliards de garan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0028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000" spc="-1" strike="noStrike">
                <a:solidFill>
                  <a:srgbClr val="015cab"/>
                </a:solidFill>
                <a:latin typeface="Arial"/>
                <a:ea typeface="Times New Roman"/>
              </a:rPr>
              <a:t>€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3,9 milliards de capital-ris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488-E199-44A4-92AA-D70881AE78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3E097-49CB-404C-A1C3-810749805C77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91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Les priorités de la BEI</a:t>
            </a:r>
            <a:br>
              <a:rPr sz="3200"/>
            </a:b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dans l’Union européenne</a:t>
            </a:r>
            <a:br>
              <a:rPr sz="3200"/>
            </a:b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1664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3000" spc="-1" strike="noStrike">
                <a:solidFill>
                  <a:srgbClr val="800019"/>
                </a:solidFill>
                <a:latin typeface="Arial"/>
              </a:rPr>
              <a:t>La BEI, partenaire à part entière pour la               mise en œuvre des politiques de l’Un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357720"/>
            <a:ext cx="514440" cy="285480"/>
          </a:xfrm>
          <a:custGeom>
            <a:avLst/>
            <a:gdLst>
              <a:gd name="textAreaLeft" fmla="*/ 64080 w 514440"/>
              <a:gd name="textAreaRight" fmla="*/ 450360 w 5144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5840" y="1052640"/>
            <a:ext cx="8096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466560" indent="-466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cohésion économique et sociale dans l’Union élarg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78936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sécurité énerg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060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e développement des réseaux trans-européens de transport (TE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29408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protection et l’amélioration de l’environ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87044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e soutien aux petites et moyennes entrepri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924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Soutien à l’Agenda européen de Lisbonne           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“Initiative Innovation 2010” (i2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57F-6D1B-492B-BB90-01624700D5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EAA71-B9EF-4C03-8136-75BFE8179B7E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0800" y="5803920"/>
            <a:ext cx="819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b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3000" spc="-1" strike="noStrike">
                <a:solidFill>
                  <a:srgbClr val="800019"/>
                </a:solidFill>
                <a:latin typeface="Arial"/>
              </a:rPr>
              <a:t>Un portefeuille de projets de qualit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1640" y="1231920"/>
            <a:ext cx="7977240" cy="4805280"/>
            <a:chOff x="701640" y="1231920"/>
            <a:chExt cx="7977240" cy="4805280"/>
          </a:xfrm>
        </p:grpSpPr>
        <p:grpSp>
          <p:nvGrpSpPr>
            <p:cNvPr id="69" name=""/>
            <p:cNvGrpSpPr/>
            <p:nvPr/>
          </p:nvGrpSpPr>
          <p:grpSpPr>
            <a:xfrm>
              <a:off x="701640" y="1231920"/>
              <a:ext cx="7977240" cy="4805280"/>
              <a:chOff x="701640" y="1231920"/>
              <a:chExt cx="7977240" cy="4805280"/>
            </a:xfrm>
          </p:grpSpPr>
          <p:sp>
            <p:nvSpPr>
              <p:cNvPr id="70" name=""/>
              <p:cNvSpPr/>
              <p:nvPr/>
            </p:nvSpPr>
            <p:spPr>
              <a:xfrm>
                <a:off x="6805440" y="2998800"/>
                <a:ext cx="18734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1" lang="en-US" sz="1800" spc="-1" strike="noStrike">
                    <a:solidFill>
                      <a:srgbClr val="015cab"/>
                    </a:solidFill>
                    <a:latin typeface="Arial"/>
                  </a:rPr>
                  <a:t>Suiv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701640" y="1231920"/>
                <a:ext cx="7715160" cy="4805280"/>
                <a:chOff x="701640" y="1231920"/>
                <a:chExt cx="7715160" cy="4805280"/>
              </a:xfrm>
            </p:grpSpPr>
            <p:pic>
              <p:nvPicPr>
                <p:cNvPr id="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1160" y="1231920"/>
                  <a:ext cx="7101000" cy="4805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287964" dir="2915907" blurRad="0" rotWithShape="0">
                    <a:srgbClr val="808080"/>
                  </a:outerShdw>
                </a:effectLst>
              </p:spPr>
            </p:pic>
            <p:sp>
              <p:nvSpPr>
                <p:cNvPr id="73" name=""/>
                <p:cNvSpPr/>
                <p:nvPr/>
              </p:nvSpPr>
              <p:spPr>
                <a:xfrm>
                  <a:off x="1419120" y="2354400"/>
                  <a:ext cx="20494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440" rIns="64440" tIns="32040" bIns="3204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Éligibilité BEI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28640" y="3164040"/>
                  <a:ext cx="119844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440" rIns="64440" tIns="32040" bIns="3204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en-US" sz="1700" spc="-1" strike="noStrike">
                      <a:solidFill>
                        <a:srgbClr val="015cab"/>
                      </a:solidFill>
                      <a:latin typeface="Arial"/>
                    </a:rPr>
                    <a:t>Critères bancaire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2743200" y="4708440"/>
                  <a:ext cx="1564920" cy="971640"/>
                  <a:chOff x="2743200" y="4708440"/>
                  <a:chExt cx="1564920" cy="9716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743200" y="4708440"/>
                    <a:ext cx="1563120" cy="971640"/>
                  </a:xfrm>
                  <a:prstGeom prst="flowChartAlternateProcess">
                    <a:avLst/>
                  </a:prstGeom>
                  <a:solidFill>
                    <a:srgbClr val="eddb3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743200" y="4735080"/>
                    <a:ext cx="1564920" cy="88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440" rIns="64440" tIns="32040" bIns="3204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14"/>
                      </a:spcBef>
                      <a:tabLst>
                        <a:tab algn="l" pos="0"/>
                        <a:tab algn="l" pos="642960"/>
                        <a:tab algn="l" pos="1285920"/>
                        <a:tab algn="l" pos="1928880"/>
                        <a:tab algn="l" pos="2571840"/>
                        <a:tab algn="l" pos="3214800"/>
                        <a:tab algn="l" pos="3857760"/>
                        <a:tab algn="l" pos="4500720"/>
                        <a:tab algn="l" pos="5143680"/>
                        <a:tab algn="l" pos="5786280"/>
                        <a:tab algn="l" pos="6429240"/>
                        <a:tab algn="l" pos="7072200"/>
                        <a:tab algn="l" pos="7715160"/>
                        <a:tab algn="l" pos="8358120"/>
                        <a:tab algn="l" pos="9001080"/>
                        <a:tab algn="l" pos="9644040"/>
                        <a:tab algn="l" pos="10287000"/>
                        <a:tab algn="l" pos="10929960"/>
                      </a:tabLst>
                    </a:pP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Conseil d’administration</a:t>
                    </a:r>
                    <a:br>
                      <a:rPr sz="1400"/>
                    </a:br>
                    <a:r>
                      <a:rPr b="0" lang="en-US" sz="1300" spc="-1" strike="noStrike">
                        <a:solidFill>
                          <a:srgbClr val="015cab"/>
                        </a:solidFill>
                        <a:latin typeface="Arial"/>
                      </a:rPr>
                      <a:t>Approbation </a:t>
                    </a:r>
                    <a:br>
                      <a:rPr sz="1300"/>
                    </a:br>
                    <a:r>
                      <a:rPr b="0" lang="en-US" sz="1300" spc="-1" strike="noStrike">
                        <a:solidFill>
                          <a:srgbClr val="015cab"/>
                        </a:solidFill>
                        <a:latin typeface="Arial"/>
                      </a:rPr>
                      <a:t>du prê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701640" y="2997360"/>
                  <a:ext cx="5164200" cy="2303280"/>
                  <a:chOff x="701640" y="2997360"/>
                  <a:chExt cx="5164200" cy="230328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2376720" y="2997360"/>
                    <a:ext cx="1539000" cy="1003680"/>
                    <a:chOff x="2376720" y="2997360"/>
                    <a:chExt cx="1539000" cy="100368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444760" y="2997360"/>
                      <a:ext cx="1418400" cy="100368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376720" y="3024000"/>
                      <a:ext cx="1539000" cy="91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Évaluation BEI</a:t>
                      </a:r>
                      <a:br>
                        <a:rPr sz="14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économiqu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financiè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techniqu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environnemen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4325760" y="2997360"/>
                    <a:ext cx="1540080" cy="615600"/>
                    <a:chOff x="4325760" y="2997360"/>
                    <a:chExt cx="1540080" cy="61560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393800" y="2997360"/>
                      <a:ext cx="1418400" cy="61560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325760" y="3050640"/>
                      <a:ext cx="154008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Comité de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701640" y="4584600"/>
                    <a:ext cx="1195200" cy="716040"/>
                    <a:chOff x="701640" y="4584600"/>
                    <a:chExt cx="1195200" cy="71604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701640" y="4584600"/>
                      <a:ext cx="1195200" cy="71604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23600" y="4588920"/>
                      <a:ext cx="1150560" cy="64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Juristes</a:t>
                      </a:r>
                      <a:br>
                        <a:rPr sz="1400"/>
                      </a:br>
                      <a:r>
                        <a:rPr b="0" lang="en-US" sz="13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Négociation du contr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" name=""/>
                  <p:cNvSpPr/>
                  <p:nvPr/>
                </p:nvSpPr>
                <p:spPr>
                  <a:xfrm>
                    <a:off x="1956240" y="3351960"/>
                    <a:ext cx="495360" cy="0"/>
                  </a:xfrm>
                  <a:prstGeom prst="line">
                    <a:avLst/>
                  </a:prstGeom>
                  <a:ln w="57240">
                    <a:solidFill>
                      <a:srgbClr val="00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1680" rIns="3168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911400" y="3351960"/>
                    <a:ext cx="482040" cy="0"/>
                  </a:xfrm>
                  <a:prstGeom prst="line">
                    <a:avLst/>
                  </a:prstGeom>
                  <a:ln w="57240">
                    <a:solidFill>
                      <a:srgbClr val="00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1680" rIns="3168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7074000" y="3400560"/>
                  <a:ext cx="1342800" cy="834480"/>
                  <a:chOff x="7074000" y="3400560"/>
                  <a:chExt cx="1342800" cy="83448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7074000" y="3400560"/>
                    <a:ext cx="1341360" cy="834480"/>
                  </a:xfrm>
                  <a:prstGeom prst="flowChartAlternateProcess">
                    <a:avLst/>
                  </a:prstGeom>
                  <a:solidFill>
                    <a:srgbClr val="eddb3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74000" y="3440160"/>
                    <a:ext cx="13428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440" rIns="64440" tIns="32040" bIns="3204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642960"/>
                        <a:tab algn="l" pos="1285920"/>
                        <a:tab algn="l" pos="1928880"/>
                        <a:tab algn="l" pos="2571840"/>
                        <a:tab algn="l" pos="3214800"/>
                        <a:tab algn="l" pos="3857760"/>
                        <a:tab algn="l" pos="4500720"/>
                        <a:tab algn="l" pos="5143680"/>
                        <a:tab algn="l" pos="5786280"/>
                        <a:tab algn="l" pos="6429240"/>
                        <a:tab algn="l" pos="7072200"/>
                        <a:tab algn="l" pos="7715160"/>
                        <a:tab algn="l" pos="8358120"/>
                        <a:tab algn="l" pos="9001080"/>
                        <a:tab algn="l" pos="9644040"/>
                        <a:tab algn="l" pos="10287000"/>
                        <a:tab algn="l" pos="10929960"/>
                      </a:tabLst>
                    </a:pP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Projet</a:t>
                    </a:r>
                    <a:br>
                      <a:rPr sz="1400"/>
                    </a:b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Emprunteur</a:t>
                    </a:r>
                    <a:br>
                      <a:rPr sz="1400"/>
                    </a:b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Garan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 flipV="1">
                  <a:off x="3349080" y="3695400"/>
                  <a:ext cx="1044360" cy="95724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17680" y="1496880"/>
                  <a:ext cx="136548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4440" rIns="6444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Demande</a:t>
                  </a:r>
                  <a:br>
                    <a:rPr sz="1700"/>
                  </a:b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du promoteur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4795920" y="4230720"/>
              <a:ext cx="1687320" cy="7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2400" spc="-1" strike="noStrike">
                  <a:solidFill>
                    <a:srgbClr val="015cab"/>
                  </a:solidFill>
                  <a:latin typeface="Arial"/>
                </a:rPr>
                <a:t>Signature du cont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88960" y="549360"/>
            <a:ext cx="815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Le cycle d’un projet à la B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77B-B8B3-41D7-AA72-BCC22C530FF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175B9-ACB7-4C51-871E-B7725C3E589C}" type="datetime1">
              <a:rPr lang="en-US"/>
              <a:t>07/30/2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52360"/>
            <a:ext cx="82072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15cab"/>
                </a:solidFill>
                <a:latin typeface="Arial"/>
              </a:rPr>
              <a:t>La BE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3160" y="3354480"/>
            <a:ext cx="2805120" cy="323640"/>
          </a:xfrm>
          <a:custGeom>
            <a:avLst/>
            <a:gdLst/>
            <a:ahLst/>
            <a:rect l="l" t="t" r="r" b="b"/>
            <a:pathLst>
              <a:path w="2513" h="291">
                <a:moveTo>
                  <a:pt x="2513" y="177"/>
                </a:moveTo>
                <a:lnTo>
                  <a:pt x="2511" y="201"/>
                </a:lnTo>
                <a:lnTo>
                  <a:pt x="2503" y="221"/>
                </a:lnTo>
                <a:lnTo>
                  <a:pt x="2493" y="241"/>
                </a:lnTo>
                <a:lnTo>
                  <a:pt x="2479" y="257"/>
                </a:lnTo>
                <a:lnTo>
                  <a:pt x="2462" y="271"/>
                </a:lnTo>
                <a:lnTo>
                  <a:pt x="2442" y="283"/>
                </a:lnTo>
                <a:lnTo>
                  <a:pt x="2422" y="289"/>
                </a:lnTo>
                <a:lnTo>
                  <a:pt x="2398" y="291"/>
                </a:lnTo>
                <a:lnTo>
                  <a:pt x="115" y="291"/>
                </a:lnTo>
                <a:lnTo>
                  <a:pt x="93" y="289"/>
                </a:lnTo>
                <a:lnTo>
                  <a:pt x="71" y="283"/>
                </a:lnTo>
                <a:lnTo>
                  <a:pt x="51" y="271"/>
                </a:lnTo>
                <a:lnTo>
                  <a:pt x="34" y="257"/>
                </a:lnTo>
                <a:lnTo>
                  <a:pt x="20" y="241"/>
                </a:lnTo>
                <a:lnTo>
                  <a:pt x="10" y="221"/>
                </a:lnTo>
                <a:lnTo>
                  <a:pt x="2" y="201"/>
                </a:lnTo>
                <a:lnTo>
                  <a:pt x="0" y="177"/>
                </a:lnTo>
                <a:lnTo>
                  <a:pt x="0" y="113"/>
                </a:lnTo>
                <a:lnTo>
                  <a:pt x="2" y="92"/>
                </a:lnTo>
                <a:lnTo>
                  <a:pt x="10" y="70"/>
                </a:lnTo>
                <a:lnTo>
                  <a:pt x="20" y="50"/>
                </a:lnTo>
                <a:lnTo>
                  <a:pt x="34" y="34"/>
                </a:lnTo>
                <a:lnTo>
                  <a:pt x="51" y="20"/>
                </a:lnTo>
                <a:lnTo>
                  <a:pt x="71" y="10"/>
                </a:lnTo>
                <a:lnTo>
                  <a:pt x="93" y="4"/>
                </a:lnTo>
                <a:lnTo>
                  <a:pt x="115" y="0"/>
                </a:lnTo>
                <a:lnTo>
                  <a:pt x="2398" y="0"/>
                </a:lnTo>
                <a:lnTo>
                  <a:pt x="2422" y="4"/>
                </a:lnTo>
                <a:lnTo>
                  <a:pt x="2442" y="10"/>
                </a:lnTo>
                <a:lnTo>
                  <a:pt x="2462" y="20"/>
                </a:lnTo>
                <a:lnTo>
                  <a:pt x="2479" y="34"/>
                </a:lnTo>
                <a:lnTo>
                  <a:pt x="2493" y="50"/>
                </a:lnTo>
                <a:lnTo>
                  <a:pt x="2503" y="70"/>
                </a:lnTo>
                <a:lnTo>
                  <a:pt x="2511" y="92"/>
                </a:lnTo>
                <a:lnTo>
                  <a:pt x="2513" y="113"/>
                </a:lnTo>
                <a:lnTo>
                  <a:pt x="2513" y="177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1200" y="1792440"/>
            <a:ext cx="966960" cy="422280"/>
          </a:xfrm>
          <a:custGeom>
            <a:avLst/>
            <a:gdLst/>
            <a:ahLst/>
            <a:rect l="l" t="t" r="r" b="b"/>
            <a:pathLst>
              <a:path w="867" h="379">
                <a:moveTo>
                  <a:pt x="867" y="268"/>
                </a:moveTo>
                <a:lnTo>
                  <a:pt x="863" y="289"/>
                </a:lnTo>
                <a:lnTo>
                  <a:pt x="857" y="311"/>
                </a:lnTo>
                <a:lnTo>
                  <a:pt x="847" y="329"/>
                </a:lnTo>
                <a:lnTo>
                  <a:pt x="832" y="347"/>
                </a:lnTo>
                <a:lnTo>
                  <a:pt x="816" y="361"/>
                </a:lnTo>
                <a:lnTo>
                  <a:pt x="796" y="371"/>
                </a:lnTo>
                <a:lnTo>
                  <a:pt x="774" y="377"/>
                </a:lnTo>
                <a:lnTo>
                  <a:pt x="752" y="379"/>
                </a:lnTo>
                <a:lnTo>
                  <a:pt x="113" y="379"/>
                </a:lnTo>
                <a:lnTo>
                  <a:pt x="90" y="377"/>
                </a:lnTo>
                <a:lnTo>
                  <a:pt x="68" y="371"/>
                </a:lnTo>
                <a:lnTo>
                  <a:pt x="50" y="361"/>
                </a:lnTo>
                <a:lnTo>
                  <a:pt x="32" y="347"/>
                </a:lnTo>
                <a:lnTo>
                  <a:pt x="18" y="329"/>
                </a:lnTo>
                <a:lnTo>
                  <a:pt x="8" y="311"/>
                </a:lnTo>
                <a:lnTo>
                  <a:pt x="2" y="289"/>
                </a:lnTo>
                <a:lnTo>
                  <a:pt x="0" y="268"/>
                </a:lnTo>
                <a:lnTo>
                  <a:pt x="0" y="114"/>
                </a:lnTo>
                <a:lnTo>
                  <a:pt x="2" y="90"/>
                </a:lnTo>
                <a:lnTo>
                  <a:pt x="8" y="70"/>
                </a:lnTo>
                <a:lnTo>
                  <a:pt x="18" y="50"/>
                </a:lnTo>
                <a:lnTo>
                  <a:pt x="32" y="34"/>
                </a:lnTo>
                <a:lnTo>
                  <a:pt x="50" y="20"/>
                </a:lnTo>
                <a:lnTo>
                  <a:pt x="68" y="8"/>
                </a:lnTo>
                <a:lnTo>
                  <a:pt x="90" y="2"/>
                </a:lnTo>
                <a:lnTo>
                  <a:pt x="113" y="0"/>
                </a:lnTo>
                <a:lnTo>
                  <a:pt x="752" y="0"/>
                </a:lnTo>
                <a:lnTo>
                  <a:pt x="774" y="2"/>
                </a:lnTo>
                <a:lnTo>
                  <a:pt x="796" y="8"/>
                </a:lnTo>
                <a:lnTo>
                  <a:pt x="816" y="20"/>
                </a:lnTo>
                <a:lnTo>
                  <a:pt x="832" y="34"/>
                </a:lnTo>
                <a:lnTo>
                  <a:pt x="847" y="50"/>
                </a:lnTo>
                <a:lnTo>
                  <a:pt x="857" y="70"/>
                </a:lnTo>
                <a:lnTo>
                  <a:pt x="863" y="90"/>
                </a:lnTo>
                <a:lnTo>
                  <a:pt x="867" y="114"/>
                </a:lnTo>
                <a:lnTo>
                  <a:pt x="867" y="268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9760" y="1076400"/>
            <a:ext cx="1566720" cy="684000"/>
          </a:xfrm>
          <a:custGeom>
            <a:avLst/>
            <a:gdLst/>
            <a:ahLst/>
            <a:rect l="l" t="t" r="r" b="b"/>
            <a:pathLst>
              <a:path w="1403" h="613">
                <a:moveTo>
                  <a:pt x="1403" y="499"/>
                </a:moveTo>
                <a:lnTo>
                  <a:pt x="1401" y="523"/>
                </a:lnTo>
                <a:lnTo>
                  <a:pt x="1395" y="543"/>
                </a:lnTo>
                <a:lnTo>
                  <a:pt x="1383" y="563"/>
                </a:lnTo>
                <a:lnTo>
                  <a:pt x="1369" y="579"/>
                </a:lnTo>
                <a:lnTo>
                  <a:pt x="1352" y="593"/>
                </a:lnTo>
                <a:lnTo>
                  <a:pt x="1332" y="605"/>
                </a:lnTo>
                <a:lnTo>
                  <a:pt x="1312" y="611"/>
                </a:lnTo>
                <a:lnTo>
                  <a:pt x="1288" y="613"/>
                </a:lnTo>
                <a:lnTo>
                  <a:pt x="115" y="613"/>
                </a:lnTo>
                <a:lnTo>
                  <a:pt x="91" y="611"/>
                </a:lnTo>
                <a:lnTo>
                  <a:pt x="71" y="605"/>
                </a:lnTo>
                <a:lnTo>
                  <a:pt x="50" y="593"/>
                </a:lnTo>
                <a:lnTo>
                  <a:pt x="34" y="579"/>
                </a:lnTo>
                <a:lnTo>
                  <a:pt x="20" y="563"/>
                </a:lnTo>
                <a:lnTo>
                  <a:pt x="8" y="543"/>
                </a:lnTo>
                <a:lnTo>
                  <a:pt x="2" y="523"/>
                </a:lnTo>
                <a:lnTo>
                  <a:pt x="0" y="499"/>
                </a:lnTo>
                <a:lnTo>
                  <a:pt x="0" y="114"/>
                </a:lnTo>
                <a:lnTo>
                  <a:pt x="2" y="90"/>
                </a:lnTo>
                <a:lnTo>
                  <a:pt x="8" y="70"/>
                </a:lnTo>
                <a:lnTo>
                  <a:pt x="20" y="50"/>
                </a:lnTo>
                <a:lnTo>
                  <a:pt x="34" y="34"/>
                </a:lnTo>
                <a:lnTo>
                  <a:pt x="50" y="20"/>
                </a:lnTo>
                <a:lnTo>
                  <a:pt x="71" y="8"/>
                </a:lnTo>
                <a:lnTo>
                  <a:pt x="91" y="2"/>
                </a:lnTo>
                <a:lnTo>
                  <a:pt x="115" y="0"/>
                </a:lnTo>
                <a:lnTo>
                  <a:pt x="1288" y="0"/>
                </a:lnTo>
                <a:lnTo>
                  <a:pt x="1312" y="2"/>
                </a:lnTo>
                <a:lnTo>
                  <a:pt x="1332" y="8"/>
                </a:lnTo>
                <a:lnTo>
                  <a:pt x="1352" y="20"/>
                </a:lnTo>
                <a:lnTo>
                  <a:pt x="1369" y="34"/>
                </a:lnTo>
                <a:lnTo>
                  <a:pt x="1383" y="50"/>
                </a:lnTo>
                <a:lnTo>
                  <a:pt x="1395" y="70"/>
                </a:lnTo>
                <a:lnTo>
                  <a:pt x="1401" y="90"/>
                </a:lnTo>
                <a:lnTo>
                  <a:pt x="1403" y="114"/>
                </a:lnTo>
                <a:lnTo>
                  <a:pt x="1403" y="49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8680" y="2060640"/>
            <a:ext cx="1978200" cy="709560"/>
          </a:xfrm>
          <a:custGeom>
            <a:avLst/>
            <a:gdLst/>
            <a:ahLst/>
            <a:rect l="l" t="t" r="r" b="b"/>
            <a:pathLst>
              <a:path w="1771" h="637">
                <a:moveTo>
                  <a:pt x="1771" y="319"/>
                </a:moveTo>
                <a:lnTo>
                  <a:pt x="1769" y="335"/>
                </a:lnTo>
                <a:lnTo>
                  <a:pt x="1767" y="351"/>
                </a:lnTo>
                <a:lnTo>
                  <a:pt x="1761" y="367"/>
                </a:lnTo>
                <a:lnTo>
                  <a:pt x="1753" y="383"/>
                </a:lnTo>
                <a:lnTo>
                  <a:pt x="1743" y="399"/>
                </a:lnTo>
                <a:lnTo>
                  <a:pt x="1731" y="413"/>
                </a:lnTo>
                <a:lnTo>
                  <a:pt x="1717" y="429"/>
                </a:lnTo>
                <a:lnTo>
                  <a:pt x="1700" y="443"/>
                </a:lnTo>
                <a:lnTo>
                  <a:pt x="1684" y="457"/>
                </a:lnTo>
                <a:lnTo>
                  <a:pt x="1664" y="471"/>
                </a:lnTo>
                <a:lnTo>
                  <a:pt x="1642" y="483"/>
                </a:lnTo>
                <a:lnTo>
                  <a:pt x="1620" y="497"/>
                </a:lnTo>
                <a:lnTo>
                  <a:pt x="1569" y="521"/>
                </a:lnTo>
                <a:lnTo>
                  <a:pt x="1512" y="543"/>
                </a:lnTo>
                <a:lnTo>
                  <a:pt x="1450" y="565"/>
                </a:lnTo>
                <a:lnTo>
                  <a:pt x="1381" y="583"/>
                </a:lnTo>
                <a:lnTo>
                  <a:pt x="1308" y="599"/>
                </a:lnTo>
                <a:lnTo>
                  <a:pt x="1231" y="613"/>
                </a:lnTo>
                <a:lnTo>
                  <a:pt x="1148" y="623"/>
                </a:lnTo>
                <a:lnTo>
                  <a:pt x="1064" y="631"/>
                </a:lnTo>
                <a:lnTo>
                  <a:pt x="977" y="635"/>
                </a:lnTo>
                <a:lnTo>
                  <a:pt x="886" y="637"/>
                </a:lnTo>
                <a:lnTo>
                  <a:pt x="795" y="635"/>
                </a:lnTo>
                <a:lnTo>
                  <a:pt x="708" y="631"/>
                </a:lnTo>
                <a:lnTo>
                  <a:pt x="623" y="623"/>
                </a:lnTo>
                <a:lnTo>
                  <a:pt x="542" y="613"/>
                </a:lnTo>
                <a:lnTo>
                  <a:pt x="463" y="599"/>
                </a:lnTo>
                <a:lnTo>
                  <a:pt x="390" y="583"/>
                </a:lnTo>
                <a:lnTo>
                  <a:pt x="324" y="565"/>
                </a:lnTo>
                <a:lnTo>
                  <a:pt x="261" y="543"/>
                </a:lnTo>
                <a:lnTo>
                  <a:pt x="202" y="521"/>
                </a:lnTo>
                <a:lnTo>
                  <a:pt x="152" y="497"/>
                </a:lnTo>
                <a:lnTo>
                  <a:pt x="130" y="483"/>
                </a:lnTo>
                <a:lnTo>
                  <a:pt x="107" y="471"/>
                </a:lnTo>
                <a:lnTo>
                  <a:pt x="89" y="457"/>
                </a:lnTo>
                <a:lnTo>
                  <a:pt x="71" y="443"/>
                </a:lnTo>
                <a:lnTo>
                  <a:pt x="55" y="429"/>
                </a:lnTo>
                <a:lnTo>
                  <a:pt x="41" y="413"/>
                </a:lnTo>
                <a:lnTo>
                  <a:pt x="28" y="399"/>
                </a:lnTo>
                <a:lnTo>
                  <a:pt x="18" y="383"/>
                </a:lnTo>
                <a:lnTo>
                  <a:pt x="10" y="367"/>
                </a:lnTo>
                <a:lnTo>
                  <a:pt x="6" y="351"/>
                </a:lnTo>
                <a:lnTo>
                  <a:pt x="2" y="335"/>
                </a:lnTo>
                <a:lnTo>
                  <a:pt x="0" y="319"/>
                </a:lnTo>
                <a:lnTo>
                  <a:pt x="2" y="301"/>
                </a:lnTo>
                <a:lnTo>
                  <a:pt x="6" y="285"/>
                </a:lnTo>
                <a:lnTo>
                  <a:pt x="10" y="269"/>
                </a:lnTo>
                <a:lnTo>
                  <a:pt x="18" y="253"/>
                </a:lnTo>
                <a:lnTo>
                  <a:pt x="28" y="239"/>
                </a:lnTo>
                <a:lnTo>
                  <a:pt x="41" y="223"/>
                </a:lnTo>
                <a:lnTo>
                  <a:pt x="55" y="209"/>
                </a:lnTo>
                <a:lnTo>
                  <a:pt x="71" y="195"/>
                </a:lnTo>
                <a:lnTo>
                  <a:pt x="89" y="179"/>
                </a:lnTo>
                <a:lnTo>
                  <a:pt x="107" y="167"/>
                </a:lnTo>
                <a:lnTo>
                  <a:pt x="130" y="153"/>
                </a:lnTo>
                <a:lnTo>
                  <a:pt x="152" y="139"/>
                </a:lnTo>
                <a:lnTo>
                  <a:pt x="202" y="115"/>
                </a:lnTo>
                <a:lnTo>
                  <a:pt x="261" y="93"/>
                </a:lnTo>
                <a:lnTo>
                  <a:pt x="324" y="73"/>
                </a:lnTo>
                <a:lnTo>
                  <a:pt x="390" y="53"/>
                </a:lnTo>
                <a:lnTo>
                  <a:pt x="463" y="38"/>
                </a:lnTo>
                <a:lnTo>
                  <a:pt x="542" y="26"/>
                </a:lnTo>
                <a:lnTo>
                  <a:pt x="623" y="14"/>
                </a:lnTo>
                <a:lnTo>
                  <a:pt x="708" y="6"/>
                </a:lnTo>
                <a:lnTo>
                  <a:pt x="795" y="2"/>
                </a:lnTo>
                <a:lnTo>
                  <a:pt x="886" y="0"/>
                </a:lnTo>
                <a:lnTo>
                  <a:pt x="977" y="2"/>
                </a:lnTo>
                <a:lnTo>
                  <a:pt x="1064" y="6"/>
                </a:lnTo>
                <a:lnTo>
                  <a:pt x="1148" y="14"/>
                </a:lnTo>
                <a:lnTo>
                  <a:pt x="1231" y="26"/>
                </a:lnTo>
                <a:lnTo>
                  <a:pt x="1308" y="38"/>
                </a:lnTo>
                <a:lnTo>
                  <a:pt x="1381" y="53"/>
                </a:lnTo>
                <a:lnTo>
                  <a:pt x="1450" y="73"/>
                </a:lnTo>
                <a:lnTo>
                  <a:pt x="1512" y="93"/>
                </a:lnTo>
                <a:lnTo>
                  <a:pt x="1569" y="115"/>
                </a:lnTo>
                <a:lnTo>
                  <a:pt x="1620" y="139"/>
                </a:lnTo>
                <a:lnTo>
                  <a:pt x="1642" y="153"/>
                </a:lnTo>
                <a:lnTo>
                  <a:pt x="1664" y="167"/>
                </a:lnTo>
                <a:lnTo>
                  <a:pt x="1684" y="179"/>
                </a:lnTo>
                <a:lnTo>
                  <a:pt x="1700" y="195"/>
                </a:lnTo>
                <a:lnTo>
                  <a:pt x="1717" y="209"/>
                </a:lnTo>
                <a:lnTo>
                  <a:pt x="1731" y="223"/>
                </a:lnTo>
                <a:lnTo>
                  <a:pt x="1743" y="239"/>
                </a:lnTo>
                <a:lnTo>
                  <a:pt x="1753" y="253"/>
                </a:lnTo>
                <a:lnTo>
                  <a:pt x="1761" y="269"/>
                </a:lnTo>
                <a:lnTo>
                  <a:pt x="1767" y="285"/>
                </a:lnTo>
                <a:lnTo>
                  <a:pt x="1769" y="301"/>
                </a:lnTo>
                <a:lnTo>
                  <a:pt x="1771" y="31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508640"/>
            <a:ext cx="3749760" cy="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00" y="5114880"/>
            <a:ext cx="120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Insp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Génér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(Audit inter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et Éval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des opérations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102280"/>
            <a:ext cx="75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Technologie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de l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65880" y="1225440"/>
            <a:ext cx="957240" cy="424080"/>
          </a:xfrm>
          <a:custGeom>
            <a:avLst/>
            <a:gdLst/>
            <a:ahLst/>
            <a:rect l="l" t="t" r="r" b="b"/>
            <a:pathLst>
              <a:path w="857" h="379">
                <a:moveTo>
                  <a:pt x="0" y="70"/>
                </a:moveTo>
                <a:lnTo>
                  <a:pt x="229" y="0"/>
                </a:lnTo>
                <a:lnTo>
                  <a:pt x="196" y="52"/>
                </a:lnTo>
                <a:lnTo>
                  <a:pt x="239" y="48"/>
                </a:lnTo>
                <a:lnTo>
                  <a:pt x="283" y="46"/>
                </a:lnTo>
                <a:lnTo>
                  <a:pt x="338" y="46"/>
                </a:lnTo>
                <a:lnTo>
                  <a:pt x="396" y="46"/>
                </a:lnTo>
                <a:lnTo>
                  <a:pt x="455" y="50"/>
                </a:lnTo>
                <a:lnTo>
                  <a:pt x="483" y="52"/>
                </a:lnTo>
                <a:lnTo>
                  <a:pt x="508" y="58"/>
                </a:lnTo>
                <a:lnTo>
                  <a:pt x="532" y="64"/>
                </a:lnTo>
                <a:lnTo>
                  <a:pt x="552" y="70"/>
                </a:lnTo>
                <a:lnTo>
                  <a:pt x="592" y="88"/>
                </a:lnTo>
                <a:lnTo>
                  <a:pt x="637" y="112"/>
                </a:lnTo>
                <a:lnTo>
                  <a:pt x="681" y="140"/>
                </a:lnTo>
                <a:lnTo>
                  <a:pt x="704" y="156"/>
                </a:lnTo>
                <a:lnTo>
                  <a:pt x="726" y="173"/>
                </a:lnTo>
                <a:lnTo>
                  <a:pt x="748" y="193"/>
                </a:lnTo>
                <a:lnTo>
                  <a:pt x="768" y="215"/>
                </a:lnTo>
                <a:lnTo>
                  <a:pt x="789" y="237"/>
                </a:lnTo>
                <a:lnTo>
                  <a:pt x="805" y="261"/>
                </a:lnTo>
                <a:lnTo>
                  <a:pt x="821" y="289"/>
                </a:lnTo>
                <a:lnTo>
                  <a:pt x="835" y="317"/>
                </a:lnTo>
                <a:lnTo>
                  <a:pt x="847" y="347"/>
                </a:lnTo>
                <a:lnTo>
                  <a:pt x="857" y="379"/>
                </a:lnTo>
                <a:lnTo>
                  <a:pt x="685" y="379"/>
                </a:lnTo>
                <a:lnTo>
                  <a:pt x="685" y="359"/>
                </a:lnTo>
                <a:lnTo>
                  <a:pt x="683" y="339"/>
                </a:lnTo>
                <a:lnTo>
                  <a:pt x="681" y="315"/>
                </a:lnTo>
                <a:lnTo>
                  <a:pt x="677" y="289"/>
                </a:lnTo>
                <a:lnTo>
                  <a:pt x="669" y="263"/>
                </a:lnTo>
                <a:lnTo>
                  <a:pt x="665" y="251"/>
                </a:lnTo>
                <a:lnTo>
                  <a:pt x="659" y="239"/>
                </a:lnTo>
                <a:lnTo>
                  <a:pt x="651" y="229"/>
                </a:lnTo>
                <a:lnTo>
                  <a:pt x="645" y="221"/>
                </a:lnTo>
                <a:lnTo>
                  <a:pt x="625" y="201"/>
                </a:lnTo>
                <a:lnTo>
                  <a:pt x="603" y="181"/>
                </a:lnTo>
                <a:lnTo>
                  <a:pt x="574" y="160"/>
                </a:lnTo>
                <a:lnTo>
                  <a:pt x="540" y="138"/>
                </a:lnTo>
                <a:lnTo>
                  <a:pt x="522" y="128"/>
                </a:lnTo>
                <a:lnTo>
                  <a:pt x="501" y="118"/>
                </a:lnTo>
                <a:lnTo>
                  <a:pt x="479" y="110"/>
                </a:lnTo>
                <a:lnTo>
                  <a:pt x="457" y="102"/>
                </a:lnTo>
                <a:lnTo>
                  <a:pt x="433" y="96"/>
                </a:lnTo>
                <a:lnTo>
                  <a:pt x="406" y="92"/>
                </a:lnTo>
                <a:lnTo>
                  <a:pt x="378" y="90"/>
                </a:lnTo>
                <a:lnTo>
                  <a:pt x="350" y="88"/>
                </a:lnTo>
                <a:lnTo>
                  <a:pt x="190" y="88"/>
                </a:lnTo>
                <a:lnTo>
                  <a:pt x="220" y="154"/>
                </a:lnTo>
                <a:lnTo>
                  <a:pt x="0" y="7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5068800"/>
            <a:ext cx="930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 la gestion des ris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46560"/>
            <a:ext cx="107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s Financement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en 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6560" y="5126040"/>
            <a:ext cx="1120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s Financements hors 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80280" y="5126040"/>
            <a:ext cx="906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br>
              <a:rPr sz="1100"/>
            </a:br>
            <a:r>
              <a:rPr b="0" lang="en-GB" sz="1100" spc="-1" strike="noStrike">
                <a:solidFill>
                  <a:srgbClr val="003f71"/>
                </a:solidFill>
                <a:latin typeface="Arial"/>
              </a:rPr>
              <a:t>des Fin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84880" y="5145120"/>
            <a:ext cx="798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es Proje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5640" y="3376440"/>
            <a:ext cx="282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ité de dir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733920"/>
            <a:ext cx="1625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  <a:ea typeface="Times New Roman"/>
              </a:rPr>
              <a:t>Prés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  <a:ea typeface="Times New Roman"/>
              </a:rPr>
              <a:t>8 Vice-prés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0960" y="2798640"/>
            <a:ext cx="1366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28 administ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18 supplé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+ 6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94240" y="2092320"/>
            <a:ext cx="1952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seil d’Admin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92680" y="1771560"/>
            <a:ext cx="1263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ité d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é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38680" y="1071720"/>
            <a:ext cx="1422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seil des</a:t>
            </a:r>
            <a:br>
              <a:rPr sz="1700"/>
            </a:b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Gouverneu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17880" y="176040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27 mem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1440" y="5084640"/>
            <a:ext cx="703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Générale de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Stratég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4360" y="4498560"/>
            <a:ext cx="3655800" cy="972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7560" y="4124160"/>
            <a:ext cx="0" cy="37476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788000" y="4149720"/>
            <a:ext cx="9360" cy="3888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4221000"/>
            <a:ext cx="1427040" cy="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6400" y="3970440"/>
            <a:ext cx="699840" cy="411120"/>
          </a:xfrm>
          <a:custGeom>
            <a:avLst/>
            <a:gdLst/>
            <a:ahLst/>
            <a:rect l="l" t="t" r="r" b="b"/>
            <a:pathLst>
              <a:path w="628" h="369">
                <a:moveTo>
                  <a:pt x="628" y="185"/>
                </a:moveTo>
                <a:lnTo>
                  <a:pt x="626" y="203"/>
                </a:lnTo>
                <a:lnTo>
                  <a:pt x="622" y="221"/>
                </a:lnTo>
                <a:lnTo>
                  <a:pt x="614" y="239"/>
                </a:lnTo>
                <a:lnTo>
                  <a:pt x="604" y="257"/>
                </a:lnTo>
                <a:lnTo>
                  <a:pt x="590" y="273"/>
                </a:lnTo>
                <a:lnTo>
                  <a:pt x="574" y="287"/>
                </a:lnTo>
                <a:lnTo>
                  <a:pt x="556" y="301"/>
                </a:lnTo>
                <a:lnTo>
                  <a:pt x="535" y="315"/>
                </a:lnTo>
                <a:lnTo>
                  <a:pt x="513" y="327"/>
                </a:lnTo>
                <a:lnTo>
                  <a:pt x="489" y="337"/>
                </a:lnTo>
                <a:lnTo>
                  <a:pt x="465" y="347"/>
                </a:lnTo>
                <a:lnTo>
                  <a:pt x="436" y="355"/>
                </a:lnTo>
                <a:lnTo>
                  <a:pt x="408" y="361"/>
                </a:lnTo>
                <a:lnTo>
                  <a:pt x="378" y="365"/>
                </a:lnTo>
                <a:lnTo>
                  <a:pt x="347" y="369"/>
                </a:lnTo>
                <a:lnTo>
                  <a:pt x="315" y="369"/>
                </a:lnTo>
                <a:lnTo>
                  <a:pt x="283" y="369"/>
                </a:lnTo>
                <a:lnTo>
                  <a:pt x="250" y="365"/>
                </a:lnTo>
                <a:lnTo>
                  <a:pt x="222" y="361"/>
                </a:lnTo>
                <a:lnTo>
                  <a:pt x="192" y="355"/>
                </a:lnTo>
                <a:lnTo>
                  <a:pt x="165" y="347"/>
                </a:lnTo>
                <a:lnTo>
                  <a:pt x="139" y="337"/>
                </a:lnTo>
                <a:lnTo>
                  <a:pt x="115" y="327"/>
                </a:lnTo>
                <a:lnTo>
                  <a:pt x="93" y="315"/>
                </a:lnTo>
                <a:lnTo>
                  <a:pt x="72" y="301"/>
                </a:lnTo>
                <a:lnTo>
                  <a:pt x="54" y="287"/>
                </a:lnTo>
                <a:lnTo>
                  <a:pt x="38" y="273"/>
                </a:lnTo>
                <a:lnTo>
                  <a:pt x="26" y="257"/>
                </a:lnTo>
                <a:lnTo>
                  <a:pt x="14" y="239"/>
                </a:lnTo>
                <a:lnTo>
                  <a:pt x="8" y="221"/>
                </a:lnTo>
                <a:lnTo>
                  <a:pt x="2" y="203"/>
                </a:lnTo>
                <a:lnTo>
                  <a:pt x="0" y="185"/>
                </a:lnTo>
                <a:lnTo>
                  <a:pt x="2" y="165"/>
                </a:lnTo>
                <a:lnTo>
                  <a:pt x="8" y="147"/>
                </a:lnTo>
                <a:lnTo>
                  <a:pt x="14" y="129"/>
                </a:lnTo>
                <a:lnTo>
                  <a:pt x="26" y="113"/>
                </a:lnTo>
                <a:lnTo>
                  <a:pt x="38" y="97"/>
                </a:lnTo>
                <a:lnTo>
                  <a:pt x="54" y="81"/>
                </a:lnTo>
                <a:lnTo>
                  <a:pt x="72" y="67"/>
                </a:lnTo>
                <a:lnTo>
                  <a:pt x="93" y="54"/>
                </a:lnTo>
                <a:lnTo>
                  <a:pt x="115" y="42"/>
                </a:lnTo>
                <a:lnTo>
                  <a:pt x="139" y="32"/>
                </a:lnTo>
                <a:lnTo>
                  <a:pt x="165" y="24"/>
                </a:lnTo>
                <a:lnTo>
                  <a:pt x="192" y="16"/>
                </a:lnTo>
                <a:lnTo>
                  <a:pt x="222" y="10"/>
                </a:lnTo>
                <a:lnTo>
                  <a:pt x="250" y="4"/>
                </a:lnTo>
                <a:lnTo>
                  <a:pt x="283" y="2"/>
                </a:lnTo>
                <a:lnTo>
                  <a:pt x="315" y="0"/>
                </a:lnTo>
                <a:lnTo>
                  <a:pt x="347" y="2"/>
                </a:lnTo>
                <a:lnTo>
                  <a:pt x="378" y="4"/>
                </a:lnTo>
                <a:lnTo>
                  <a:pt x="408" y="10"/>
                </a:lnTo>
                <a:lnTo>
                  <a:pt x="436" y="16"/>
                </a:lnTo>
                <a:lnTo>
                  <a:pt x="465" y="24"/>
                </a:lnTo>
                <a:lnTo>
                  <a:pt x="489" y="32"/>
                </a:lnTo>
                <a:lnTo>
                  <a:pt x="513" y="42"/>
                </a:lnTo>
                <a:lnTo>
                  <a:pt x="535" y="54"/>
                </a:lnTo>
                <a:lnTo>
                  <a:pt x="556" y="67"/>
                </a:lnTo>
                <a:lnTo>
                  <a:pt x="574" y="81"/>
                </a:lnTo>
                <a:lnTo>
                  <a:pt x="590" y="97"/>
                </a:lnTo>
                <a:lnTo>
                  <a:pt x="604" y="113"/>
                </a:lnTo>
                <a:lnTo>
                  <a:pt x="614" y="129"/>
                </a:lnTo>
                <a:lnTo>
                  <a:pt x="622" y="147"/>
                </a:lnTo>
                <a:lnTo>
                  <a:pt x="626" y="165"/>
                </a:lnTo>
                <a:lnTo>
                  <a:pt x="628" y="185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67640" y="4076640"/>
            <a:ext cx="57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084640"/>
            <a:ext cx="93672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Secrétariat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géné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Affaire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jurid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Ressources huma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653000"/>
            <a:ext cx="79200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4653000"/>
            <a:ext cx="79200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2908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4653000"/>
            <a:ext cx="79236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S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653000"/>
            <a:ext cx="107928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SG-JU-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272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C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p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p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49280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9080" y="449280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P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0E8-E9B0-4415-86EE-E3A85735157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E22D7-8796-4FCA-8B1E-44D373E78E70}" type="datetime1">
              <a:rPr lang="en-US"/>
              <a:t>07/30/26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Lycée Technique Joseph Bech</cp:lastModifiedBy>
  <dcterms:modified xsi:type="dcterms:W3CDTF">2007-10-08T09:44:05Z</dcterms:modified>
  <cp:revision>136</cp:revision>
  <dc:subject/>
  <dc:title>PowerPoint Presentation</dc:title>
</cp:coreProperties>
</file>