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2A8B-F06F-4A6B-8225-3F4636346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nding up from EUR 45bn in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AA Finance Instit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capital base (own funds EUR 26b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ervative Ris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udent gearing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quality loan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rehensive guarantee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7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87040" y="4714920"/>
            <a:ext cx="48942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though the 1999 capital increase was meant to be sufficient for five years, the various new mandates given to the EIB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á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strong growth in its traditional operations will make an earlier capital increase necessary in order to avoid a severe disruption in EIB len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tenth capital increase will be proposed to be effective 2003; an increase of some 50-75%, with a similar paid %. Also to be met from reserves. This increase is forecast to be sufficient for the next 5 to 7 y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cession of new Member States will also result in a capital increase, based on the candidate countries’ relative share in EU-wide GDP at the time of entry, which is therefore likely to be limited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5 or 6 % of the existing capital and is outstripped by the increased lending requirement of the accession count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1FB-442A-4710-B26C-D0F2742C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D48-40A1-43D9-9444-0DA4840E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E71-9C29-47A6-B46B-8DB08698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028-6795-4ECA-8CBD-29EDE287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E75-A2E6-46C8-B049-E9A481A0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884-84B3-482B-BF0A-CD776141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FE5-4D87-4B24-B21F-49F1FF1F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6B9-51F1-4536-8910-2F934B3F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D7C-5BC1-4243-B003-7895D279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187-1F02-4F02-9576-8E07C0CD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1FA-B387-4256-8637-E915E3AD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F33-CE33-49DC-8648-423C1F67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6290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19/04/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920" y="6629040"/>
            <a:ext cx="6248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400" y="66290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4058-A1F0-454F-8C0E-03F18E19A6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5cab"/>
                </a:solidFill>
                <a:latin typeface="Arial"/>
              </a:rPr>
              <a:t>BANQUE EUROPÉENNE D’INVESTISSEMENT</a:t>
            </a:r>
            <a:br>
              <a:rPr sz="4400"/>
            </a:br>
            <a:br>
              <a:rPr sz="4400"/>
            </a:b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19/04/2007</a:t>
            </a: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 – InterLycées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ww.bei.org</a:t>
            </a: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60760" y="475920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D17-9C50-4D03-9238-4897CF0853A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2629B-C7BA-48A0-BD83-134F011146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600200"/>
            <a:ext cx="780084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marL="428760" indent="-428760"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2500" spc="-1" strike="noStrike">
                <a:solidFill>
                  <a:srgbClr val="015cab"/>
                </a:solidFill>
                <a:latin typeface="Arial"/>
              </a:rPr>
              <a:t>BEI –</a:t>
            </a:r>
            <a:r>
              <a:rPr b="0" lang="fr-FR" sz="2500" spc="-1" strike="noStrike">
                <a:solidFill>
                  <a:srgbClr val="015cab"/>
                </a:solidFill>
                <a:latin typeface="Arial"/>
              </a:rPr>
              <a:t> Institution financière de l’Union européen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42876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Créée par le Traité de Rome en 1958, elle finance par des prêts à long terme des projets contribuant à l’intégration européenne et aux objectifs de l’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Capital souscrit: € 164,8 milli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Actionnaires: les 27 États membres de l’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Le Groupe BEI – La BEI et le FEI</a:t>
            </a: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328-F31E-45EE-9C33-13753DC5B1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474BD-BC68-41D3-98E8-04D0D08D2A5E}" type="datetime1">
              <a:rPr lang="en-US"/>
              <a:t>07/30/26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5cab"/>
                </a:solidFill>
                <a:latin typeface="Arial"/>
              </a:rPr>
              <a:t>Chiffres clés 2006</a:t>
            </a:r>
            <a:br>
              <a:rPr sz="3200"/>
            </a:b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5cab"/>
                </a:solidFill>
                <a:latin typeface="Arial"/>
              </a:rPr>
              <a:t>Prêts dans l’UE:</a:t>
            </a:r>
            <a:r>
              <a:rPr b="0" lang="en-GB" sz="2800" spc="-1" strike="noStrike">
                <a:solidFill>
                  <a:srgbClr val="015cab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5cab"/>
                </a:solidFill>
                <a:latin typeface="Arial"/>
              </a:rPr>
              <a:t>EUR 39.8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15cab"/>
                </a:solidFill>
                <a:latin typeface="Arial"/>
              </a:rPr>
              <a:t>Pays partenaires:</a:t>
            </a:r>
            <a:r>
              <a:rPr b="0" lang="fr-FR" sz="2800" spc="-1" strike="noStrike">
                <a:solidFill>
                  <a:srgbClr val="015ca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15cab"/>
                </a:solidFill>
                <a:latin typeface="Arial"/>
              </a:rPr>
              <a:t>EUR   5.9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5cab"/>
                </a:solidFill>
                <a:latin typeface="Arial"/>
              </a:rPr>
              <a:t>Total des prêts:</a:t>
            </a:r>
            <a:r>
              <a:rPr b="0" lang="en-GB" sz="2800" spc="-1" strike="noStrike">
                <a:solidFill>
                  <a:srgbClr val="015cab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5cab"/>
                </a:solidFill>
                <a:latin typeface="Arial"/>
              </a:rPr>
              <a:t>EUR 45.8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15cab"/>
                </a:solidFill>
                <a:latin typeface="Arial"/>
              </a:rPr>
              <a:t>Total des emprunts:</a:t>
            </a:r>
            <a:r>
              <a:rPr b="0" lang="fr-FR" sz="2800" spc="-1" strike="noStrike">
                <a:solidFill>
                  <a:srgbClr val="015ca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15cab"/>
                </a:solidFill>
                <a:latin typeface="Arial"/>
              </a:rPr>
              <a:t>EUR 48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AEB-7FA2-4FF6-86CA-9744D65235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D86CF-77E9-4B51-9096-979DCE0F99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189000"/>
            <a:ext cx="70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Prêts en 2006 (en milliards d’eu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1027080"/>
            <a:ext cx="7129800" cy="49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AAB-F509-4A7D-9BAD-4899543F49C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A9620-7130-465E-B084-B17FB5498D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Le Groupe BEI – La BEI et le FEI</a:t>
            </a: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700280"/>
            <a:ext cx="7800840" cy="58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marL="428760" indent="-428760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2500" spc="-1" strike="noStrike">
                <a:solidFill>
                  <a:srgbClr val="015cab"/>
                </a:solidFill>
                <a:latin typeface="Arial"/>
              </a:rPr>
              <a:t>FEI</a:t>
            </a:r>
            <a:r>
              <a:rPr b="0" lang="fr-FR" sz="2500" spc="-1" strike="noStrike">
                <a:solidFill>
                  <a:srgbClr val="015cab"/>
                </a:solidFill>
                <a:latin typeface="Arial"/>
              </a:rPr>
              <a:t> – </a:t>
            </a:r>
            <a:r>
              <a:rPr b="0" lang="fr-FR" sz="2500" spc="-1" strike="noStrike">
                <a:solidFill>
                  <a:srgbClr val="015cab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015cab"/>
                </a:solidFill>
                <a:latin typeface="Arial"/>
              </a:rPr>
              <a:t>filiale du Groupe, spécialisée dans le capital-</a:t>
            </a:r>
            <a:r>
              <a:rPr b="0" lang="fr-FR" sz="2500" spc="-1" strike="noStrike">
                <a:solidFill>
                  <a:srgbClr val="015cab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015cab"/>
                </a:solidFill>
                <a:latin typeface="Arial"/>
              </a:rPr>
              <a:t>risque et les garanties en faveur des P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428760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Créé en 199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Structure tripartite: BEI (61,9%), Commission    européenne (30%) et institutions financières (8,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Volume des opéra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0028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000" spc="-1" strike="noStrike">
                <a:solidFill>
                  <a:srgbClr val="015cab"/>
                </a:solidFill>
                <a:latin typeface="Arial"/>
                <a:ea typeface="Times New Roman"/>
              </a:rPr>
              <a:t>€  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11,1 milliards de garan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0028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2000" spc="-1" strike="noStrike">
                <a:solidFill>
                  <a:srgbClr val="015cab"/>
                </a:solidFill>
                <a:latin typeface="Arial"/>
                <a:ea typeface="Times New Roman"/>
              </a:rPr>
              <a:t>€  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3,9 milliards de capital-ris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2876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B8F-92E8-4036-B3BC-90C674F093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62B4E-633A-4727-97FB-2FC7E106FD9F}" type="datetime1">
              <a:rPr lang="en-US"/>
              <a:t>07/30/26</a:t>
            </a:fld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91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15cab"/>
                </a:solidFill>
                <a:latin typeface="Arial"/>
              </a:rPr>
              <a:t>Les priorités de la BEI</a:t>
            </a:r>
            <a:br>
              <a:rPr sz="3200"/>
            </a:br>
            <a:r>
              <a:rPr b="1" lang="fr-FR" sz="3200" spc="-1" strike="noStrike">
                <a:solidFill>
                  <a:srgbClr val="015cab"/>
                </a:solidFill>
                <a:latin typeface="Arial"/>
              </a:rPr>
              <a:t>dans l’Union européenne</a:t>
            </a:r>
            <a:br>
              <a:rPr sz="3200"/>
            </a:br>
            <a:endParaRPr b="0" lang="en-US" sz="32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51664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3000" spc="-1" strike="noStrike">
                <a:solidFill>
                  <a:srgbClr val="800019"/>
                </a:solidFill>
                <a:latin typeface="Arial"/>
              </a:rPr>
              <a:t>La BEI, partenaire à part entière pour la               mise en œuvre des politiques de l’Un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3357720"/>
            <a:ext cx="514440" cy="285480"/>
          </a:xfrm>
          <a:custGeom>
            <a:avLst/>
            <a:gdLst>
              <a:gd name="textAreaLeft" fmla="*/ 64080 w 514440"/>
              <a:gd name="textAreaRight" fmla="*/ 450360 w 514440"/>
              <a:gd name="textAreaTop" fmla="*/ 71280 h 285480"/>
              <a:gd name="textAreaBottom" fmla="*/ 214200 h 285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00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5840" y="1052640"/>
            <a:ext cx="80960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466560" indent="-466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1108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10960">
              <a:lnSpc>
                <a:spcPct val="100000"/>
              </a:lnSpc>
              <a:spcBef>
                <a:spcPts val="8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81108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La cohésion économique et sociale dans l’Union élarg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789360"/>
            <a:ext cx="807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3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La sécurité énergé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06064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Le développement des réseaux trans-européens de transport (TE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294080"/>
            <a:ext cx="807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3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La protection et l’amélioration de l’environn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870440"/>
            <a:ext cx="807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3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Le soutien aux petites et moyennes entrepri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9242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Soutien à l’Agenda européen de Lisbonne             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15cab"/>
                </a:solidFill>
                <a:latin typeface="Arial"/>
                <a:ea typeface="Times New Roman"/>
              </a:rPr>
              <a:t>“Initiative Innovation 2010” (i2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EBD-C9FF-4088-AAB9-22EBD196E0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0E030-3BF4-4E30-843F-8DC92D9FFB0C}" type="datetime1">
              <a:rPr lang="en-US"/>
              <a:t>07/30/26</a:t>
            </a:fld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0800" y="5803920"/>
            <a:ext cx="819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b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3000" spc="-1" strike="noStrike">
                <a:solidFill>
                  <a:srgbClr val="800019"/>
                </a:solidFill>
                <a:latin typeface="Arial"/>
              </a:rPr>
              <a:t>Un portefeuille de projets de qualit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01640" y="1231920"/>
            <a:ext cx="7977240" cy="4805280"/>
            <a:chOff x="701640" y="1231920"/>
            <a:chExt cx="7977240" cy="4805280"/>
          </a:xfrm>
        </p:grpSpPr>
        <p:grpSp>
          <p:nvGrpSpPr>
            <p:cNvPr id="69" name=""/>
            <p:cNvGrpSpPr/>
            <p:nvPr/>
          </p:nvGrpSpPr>
          <p:grpSpPr>
            <a:xfrm>
              <a:off x="701640" y="1231920"/>
              <a:ext cx="7977240" cy="4805280"/>
              <a:chOff x="701640" y="1231920"/>
              <a:chExt cx="7977240" cy="4805280"/>
            </a:xfrm>
          </p:grpSpPr>
          <p:sp>
            <p:nvSpPr>
              <p:cNvPr id="70" name=""/>
              <p:cNvSpPr/>
              <p:nvPr/>
            </p:nvSpPr>
            <p:spPr>
              <a:xfrm>
                <a:off x="6805440" y="2998800"/>
                <a:ext cx="187344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1" lang="en-US" sz="1800" spc="-1" strike="noStrike">
                    <a:solidFill>
                      <a:srgbClr val="015cab"/>
                    </a:solidFill>
                    <a:latin typeface="Arial"/>
                  </a:rPr>
                  <a:t>Suiv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701640" y="1231920"/>
                <a:ext cx="7715160" cy="4805280"/>
                <a:chOff x="701640" y="1231920"/>
                <a:chExt cx="7715160" cy="4805280"/>
              </a:xfrm>
            </p:grpSpPr>
            <p:pic>
              <p:nvPicPr>
                <p:cNvPr id="7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11160" y="1231920"/>
                  <a:ext cx="7101000" cy="4805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287964" dir="2915907" blurRad="0" rotWithShape="0">
                    <a:srgbClr val="808080"/>
                  </a:outerShdw>
                </a:effectLst>
              </p:spPr>
            </p:pic>
            <p:sp>
              <p:nvSpPr>
                <p:cNvPr id="73" name=""/>
                <p:cNvSpPr/>
                <p:nvPr/>
              </p:nvSpPr>
              <p:spPr>
                <a:xfrm>
                  <a:off x="1419120" y="2354400"/>
                  <a:ext cx="20494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440" rIns="64440" tIns="32040" bIns="3204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642960"/>
                      <a:tab algn="l" pos="1285920"/>
                      <a:tab algn="l" pos="1928880"/>
                      <a:tab algn="l" pos="2571840"/>
                      <a:tab algn="l" pos="3214800"/>
                      <a:tab algn="l" pos="3857760"/>
                      <a:tab algn="l" pos="4500720"/>
                      <a:tab algn="l" pos="5143680"/>
                      <a:tab algn="l" pos="5786280"/>
                      <a:tab algn="l" pos="6429240"/>
                      <a:tab algn="l" pos="7072200"/>
                      <a:tab algn="l" pos="7715160"/>
                      <a:tab algn="l" pos="8358120"/>
                      <a:tab algn="l" pos="9001080"/>
                      <a:tab algn="l" pos="9644040"/>
                      <a:tab algn="l" pos="10287000"/>
                      <a:tab algn="l" pos="10929960"/>
                    </a:tabLst>
                  </a:pPr>
                  <a:r>
                    <a:rPr b="1" lang="fr-FR" sz="1700" spc="-1" strike="noStrike">
                      <a:solidFill>
                        <a:srgbClr val="015cab"/>
                      </a:solidFill>
                      <a:latin typeface="Arial"/>
                    </a:rPr>
                    <a:t>Éligibilité BEI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28640" y="3164040"/>
                  <a:ext cx="1198440" cy="58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440" rIns="64440" tIns="32040" bIns="3204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642960"/>
                      <a:tab algn="l" pos="1285920"/>
                      <a:tab algn="l" pos="1928880"/>
                      <a:tab algn="l" pos="2571840"/>
                      <a:tab algn="l" pos="3214800"/>
                      <a:tab algn="l" pos="3857760"/>
                      <a:tab algn="l" pos="4500720"/>
                      <a:tab algn="l" pos="5143680"/>
                      <a:tab algn="l" pos="5786280"/>
                      <a:tab algn="l" pos="6429240"/>
                      <a:tab algn="l" pos="7072200"/>
                      <a:tab algn="l" pos="7715160"/>
                      <a:tab algn="l" pos="8358120"/>
                      <a:tab algn="l" pos="9001080"/>
                      <a:tab algn="l" pos="9644040"/>
                      <a:tab algn="l" pos="10287000"/>
                      <a:tab algn="l" pos="10929960"/>
                    </a:tabLst>
                  </a:pPr>
                  <a:r>
                    <a:rPr b="1" lang="en-US" sz="1700" spc="-1" strike="noStrike">
                      <a:solidFill>
                        <a:srgbClr val="015cab"/>
                      </a:solidFill>
                      <a:latin typeface="Arial"/>
                    </a:rPr>
                    <a:t>Critères bancaires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"/>
                <p:cNvGrpSpPr/>
                <p:nvPr/>
              </p:nvGrpSpPr>
              <p:grpSpPr>
                <a:xfrm>
                  <a:off x="2743200" y="4708440"/>
                  <a:ext cx="1564920" cy="971640"/>
                  <a:chOff x="2743200" y="4708440"/>
                  <a:chExt cx="1564920" cy="97164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2743200" y="4708440"/>
                    <a:ext cx="1563120" cy="971640"/>
                  </a:xfrm>
                  <a:prstGeom prst="flowChartAlternateProcess">
                    <a:avLst/>
                  </a:prstGeom>
                  <a:solidFill>
                    <a:srgbClr val="eddb3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4080" rIns="64080" tIns="32040" bIns="320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2743200" y="4735080"/>
                    <a:ext cx="1564920" cy="88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4440" rIns="64440" tIns="32040" bIns="3204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14"/>
                      </a:spcBef>
                      <a:tabLst>
                        <a:tab algn="l" pos="0"/>
                        <a:tab algn="l" pos="642960"/>
                        <a:tab algn="l" pos="1285920"/>
                        <a:tab algn="l" pos="1928880"/>
                        <a:tab algn="l" pos="2571840"/>
                        <a:tab algn="l" pos="3214800"/>
                        <a:tab algn="l" pos="3857760"/>
                        <a:tab algn="l" pos="4500720"/>
                        <a:tab algn="l" pos="5143680"/>
                        <a:tab algn="l" pos="5786280"/>
                        <a:tab algn="l" pos="6429240"/>
                        <a:tab algn="l" pos="7072200"/>
                        <a:tab algn="l" pos="7715160"/>
                        <a:tab algn="l" pos="8358120"/>
                        <a:tab algn="l" pos="9001080"/>
                        <a:tab algn="l" pos="9644040"/>
                        <a:tab algn="l" pos="10287000"/>
                        <a:tab algn="l" pos="10929960"/>
                      </a:tabLst>
                    </a:pPr>
                    <a:r>
                      <a:rPr b="1" lang="en-US" sz="1400" spc="-1" strike="noStrike">
                        <a:solidFill>
                          <a:srgbClr val="015cab"/>
                        </a:solidFill>
                        <a:latin typeface="Arial"/>
                      </a:rPr>
                      <a:t>Conseil d’administration</a:t>
                    </a:r>
                    <a:br>
                      <a:rPr sz="1400"/>
                    </a:br>
                    <a:r>
                      <a:rPr b="0" lang="en-US" sz="1300" spc="-1" strike="noStrike">
                        <a:solidFill>
                          <a:srgbClr val="015cab"/>
                        </a:solidFill>
                        <a:latin typeface="Arial"/>
                      </a:rPr>
                      <a:t>Approbation </a:t>
                    </a:r>
                    <a:br>
                      <a:rPr sz="1300"/>
                    </a:br>
                    <a:r>
                      <a:rPr b="0" lang="en-US" sz="1300" spc="-1" strike="noStrike">
                        <a:solidFill>
                          <a:srgbClr val="015cab"/>
                        </a:solidFill>
                        <a:latin typeface="Arial"/>
                      </a:rPr>
                      <a:t>du prêt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" name=""/>
                <p:cNvGrpSpPr/>
                <p:nvPr/>
              </p:nvGrpSpPr>
              <p:grpSpPr>
                <a:xfrm>
                  <a:off x="701640" y="2997360"/>
                  <a:ext cx="5164200" cy="2303280"/>
                  <a:chOff x="701640" y="2997360"/>
                  <a:chExt cx="5164200" cy="2303280"/>
                </a:xfrm>
              </p:grpSpPr>
              <p:grpSp>
                <p:nvGrpSpPr>
                  <p:cNvPr id="79" name=""/>
                  <p:cNvGrpSpPr/>
                  <p:nvPr/>
                </p:nvGrpSpPr>
                <p:grpSpPr>
                  <a:xfrm>
                    <a:off x="2376720" y="2997360"/>
                    <a:ext cx="1539000" cy="1003680"/>
                    <a:chOff x="2376720" y="2997360"/>
                    <a:chExt cx="1539000" cy="100368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444760" y="2997360"/>
                      <a:ext cx="1418400" cy="1003680"/>
                    </a:xfrm>
                    <a:prstGeom prst="flowChartAlternateProcess">
                      <a:avLst/>
                    </a:prstGeom>
                    <a:solidFill>
                      <a:srgbClr val="eddb3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31680" rIns="31680" tIns="15840" bIns="158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2376720" y="3024000"/>
                      <a:ext cx="1539000" cy="914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31680" rIns="31680" tIns="15840" bIns="1584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642960"/>
                          <a:tab algn="l" pos="1285920"/>
                          <a:tab algn="l" pos="1928880"/>
                          <a:tab algn="l" pos="2571840"/>
                          <a:tab algn="l" pos="3214800"/>
                          <a:tab algn="l" pos="3857760"/>
                          <a:tab algn="l" pos="4500720"/>
                          <a:tab algn="l" pos="5143680"/>
                          <a:tab algn="l" pos="5786280"/>
                          <a:tab algn="l" pos="6429240"/>
                          <a:tab algn="l" pos="7072200"/>
                          <a:tab algn="l" pos="7715160"/>
                          <a:tab algn="l" pos="8358120"/>
                          <a:tab algn="l" pos="9001080"/>
                          <a:tab algn="l" pos="9644040"/>
                          <a:tab algn="l" pos="10287000"/>
                          <a:tab algn="l" pos="10929960"/>
                        </a:tabLst>
                      </a:pPr>
                      <a:r>
                        <a:rPr b="1" lang="en-US" sz="14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Évaluation BEI</a:t>
                      </a:r>
                      <a:br>
                        <a:rPr sz="1400"/>
                      </a:br>
                      <a:r>
                        <a:rPr b="0" lang="en-US" sz="11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économiqu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financièr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techniqu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environnement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4325760" y="2997360"/>
                    <a:ext cx="1540080" cy="615600"/>
                    <a:chOff x="4325760" y="2997360"/>
                    <a:chExt cx="1540080" cy="61560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4393800" y="2997360"/>
                      <a:ext cx="1418400" cy="615600"/>
                    </a:xfrm>
                    <a:prstGeom prst="flowChartAlternateProcess">
                      <a:avLst/>
                    </a:prstGeom>
                    <a:solidFill>
                      <a:srgbClr val="eddb3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31680" rIns="31680" tIns="15840" bIns="158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4325760" y="3050640"/>
                      <a:ext cx="1540080" cy="45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31680" rIns="31680" tIns="15840" bIns="1584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642960"/>
                          <a:tab algn="l" pos="1285920"/>
                          <a:tab algn="l" pos="1928880"/>
                          <a:tab algn="l" pos="2571840"/>
                          <a:tab algn="l" pos="3214800"/>
                          <a:tab algn="l" pos="3857760"/>
                          <a:tab algn="l" pos="4500720"/>
                          <a:tab algn="l" pos="5143680"/>
                          <a:tab algn="l" pos="5786280"/>
                          <a:tab algn="l" pos="6429240"/>
                          <a:tab algn="l" pos="7072200"/>
                          <a:tab algn="l" pos="7715160"/>
                          <a:tab algn="l" pos="8358120"/>
                          <a:tab algn="l" pos="9001080"/>
                          <a:tab algn="l" pos="9644040"/>
                          <a:tab algn="l" pos="10287000"/>
                          <a:tab algn="l" pos="10929960"/>
                        </a:tabLst>
                      </a:pPr>
                      <a:r>
                        <a:rPr b="1" lang="en-US" sz="14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Comité de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" name=""/>
                  <p:cNvGrpSpPr/>
                  <p:nvPr/>
                </p:nvGrpSpPr>
                <p:grpSpPr>
                  <a:xfrm>
                    <a:off x="701640" y="4584600"/>
                    <a:ext cx="1195200" cy="716040"/>
                    <a:chOff x="701640" y="4584600"/>
                    <a:chExt cx="1195200" cy="716040"/>
                  </a:xfrm>
                </p:grpSpPr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701640" y="4584600"/>
                      <a:ext cx="1195200" cy="716040"/>
                    </a:xfrm>
                    <a:prstGeom prst="flowChartAlternateProcess">
                      <a:avLst/>
                    </a:prstGeom>
                    <a:solidFill>
                      <a:srgbClr val="eddb3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31680" rIns="31680" tIns="15840" bIns="158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723600" y="4588920"/>
                      <a:ext cx="1150560" cy="64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31680" rIns="31680" tIns="15840" bIns="1584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642960"/>
                          <a:tab algn="l" pos="1285920"/>
                          <a:tab algn="l" pos="1928880"/>
                          <a:tab algn="l" pos="2571840"/>
                          <a:tab algn="l" pos="3214800"/>
                          <a:tab algn="l" pos="3857760"/>
                          <a:tab algn="l" pos="4500720"/>
                          <a:tab algn="l" pos="5143680"/>
                          <a:tab algn="l" pos="5786280"/>
                          <a:tab algn="l" pos="6429240"/>
                          <a:tab algn="l" pos="7072200"/>
                          <a:tab algn="l" pos="7715160"/>
                          <a:tab algn="l" pos="8358120"/>
                          <a:tab algn="l" pos="9001080"/>
                          <a:tab algn="l" pos="9644040"/>
                          <a:tab algn="l" pos="10287000"/>
                          <a:tab algn="l" pos="10929960"/>
                        </a:tabLst>
                      </a:pPr>
                      <a:r>
                        <a:rPr b="1" lang="en-US" sz="14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Juristes</a:t>
                      </a:r>
                      <a:br>
                        <a:rPr sz="1400"/>
                      </a:br>
                      <a:r>
                        <a:rPr b="0" lang="en-US" sz="1300" spc="-1" strike="noStrike">
                          <a:solidFill>
                            <a:srgbClr val="015cab"/>
                          </a:solidFill>
                          <a:latin typeface="Arial"/>
                        </a:rPr>
                        <a:t>Négociation du contr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" name=""/>
                  <p:cNvSpPr/>
                  <p:nvPr/>
                </p:nvSpPr>
                <p:spPr>
                  <a:xfrm>
                    <a:off x="1956240" y="3351960"/>
                    <a:ext cx="495360" cy="0"/>
                  </a:xfrm>
                  <a:prstGeom prst="line">
                    <a:avLst/>
                  </a:prstGeom>
                  <a:ln w="57240">
                    <a:solidFill>
                      <a:srgbClr val="00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1680" rIns="3168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911400" y="3351960"/>
                    <a:ext cx="482040" cy="0"/>
                  </a:xfrm>
                  <a:prstGeom prst="line">
                    <a:avLst/>
                  </a:prstGeom>
                  <a:ln w="57240">
                    <a:solidFill>
                      <a:srgbClr val="00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1680" rIns="3168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" name=""/>
                <p:cNvGrpSpPr/>
                <p:nvPr/>
              </p:nvGrpSpPr>
              <p:grpSpPr>
                <a:xfrm>
                  <a:off x="7074000" y="3400560"/>
                  <a:ext cx="1342800" cy="834480"/>
                  <a:chOff x="7074000" y="3400560"/>
                  <a:chExt cx="1342800" cy="83448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7074000" y="3400560"/>
                    <a:ext cx="1341360" cy="834480"/>
                  </a:xfrm>
                  <a:prstGeom prst="flowChartAlternateProcess">
                    <a:avLst/>
                  </a:prstGeom>
                  <a:solidFill>
                    <a:srgbClr val="eddb3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4080" rIns="64080" tIns="32040" bIns="320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74000" y="3440160"/>
                    <a:ext cx="134280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4440" rIns="64440" tIns="32040" bIns="3204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642960"/>
                        <a:tab algn="l" pos="1285920"/>
                        <a:tab algn="l" pos="1928880"/>
                        <a:tab algn="l" pos="2571840"/>
                        <a:tab algn="l" pos="3214800"/>
                        <a:tab algn="l" pos="3857760"/>
                        <a:tab algn="l" pos="4500720"/>
                        <a:tab algn="l" pos="5143680"/>
                        <a:tab algn="l" pos="5786280"/>
                        <a:tab algn="l" pos="6429240"/>
                        <a:tab algn="l" pos="7072200"/>
                        <a:tab algn="l" pos="7715160"/>
                        <a:tab algn="l" pos="8358120"/>
                        <a:tab algn="l" pos="9001080"/>
                        <a:tab algn="l" pos="9644040"/>
                        <a:tab algn="l" pos="10287000"/>
                        <a:tab algn="l" pos="10929960"/>
                      </a:tabLst>
                    </a:pPr>
                    <a:r>
                      <a:rPr b="1" lang="en-US" sz="1400" spc="-1" strike="noStrike">
                        <a:solidFill>
                          <a:srgbClr val="015cab"/>
                        </a:solidFill>
                        <a:latin typeface="Arial"/>
                      </a:rPr>
                      <a:t>Projet</a:t>
                    </a:r>
                    <a:br>
                      <a:rPr sz="1400"/>
                    </a:br>
                    <a:r>
                      <a:rPr b="1" lang="en-US" sz="1400" spc="-1" strike="noStrike">
                        <a:solidFill>
                          <a:srgbClr val="015cab"/>
                        </a:solidFill>
                        <a:latin typeface="Arial"/>
                      </a:rPr>
                      <a:t>Emprunteur</a:t>
                    </a:r>
                    <a:br>
                      <a:rPr sz="1400"/>
                    </a:br>
                    <a:r>
                      <a:rPr b="1" lang="en-US" sz="1400" spc="-1" strike="noStrike">
                        <a:solidFill>
                          <a:srgbClr val="015cab"/>
                        </a:solidFill>
                        <a:latin typeface="Arial"/>
                      </a:rPr>
                      <a:t>Garant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 flipV="1">
                  <a:off x="3349080" y="3695400"/>
                  <a:ext cx="1044360" cy="957240"/>
                </a:xfrm>
                <a:prstGeom prst="line">
                  <a:avLst/>
                </a:prstGeom>
                <a:ln w="57240">
                  <a:solidFill>
                    <a:srgbClr val="0033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17680" y="1496880"/>
                  <a:ext cx="136548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4440" rIns="6444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642960"/>
                      <a:tab algn="l" pos="1285920"/>
                      <a:tab algn="l" pos="1928880"/>
                      <a:tab algn="l" pos="2571840"/>
                      <a:tab algn="l" pos="3214800"/>
                      <a:tab algn="l" pos="3857760"/>
                      <a:tab algn="l" pos="4500720"/>
                      <a:tab algn="l" pos="5143680"/>
                      <a:tab algn="l" pos="5786280"/>
                      <a:tab algn="l" pos="6429240"/>
                      <a:tab algn="l" pos="7072200"/>
                      <a:tab algn="l" pos="7715160"/>
                      <a:tab algn="l" pos="8358120"/>
                      <a:tab algn="l" pos="9001080"/>
                      <a:tab algn="l" pos="9644040"/>
                      <a:tab algn="l" pos="10287000"/>
                      <a:tab algn="l" pos="10929960"/>
                    </a:tabLst>
                  </a:pPr>
                  <a:r>
                    <a:rPr b="1" lang="fr-FR" sz="1700" spc="-1" strike="noStrike">
                      <a:solidFill>
                        <a:srgbClr val="015cab"/>
                      </a:solidFill>
                      <a:latin typeface="Arial"/>
                    </a:rPr>
                    <a:t>Demande</a:t>
                  </a:r>
                  <a:br>
                    <a:rPr sz="1700"/>
                  </a:br>
                  <a:r>
                    <a:rPr b="1" lang="fr-FR" sz="1700" spc="-1" strike="noStrike">
                      <a:solidFill>
                        <a:srgbClr val="015cab"/>
                      </a:solidFill>
                      <a:latin typeface="Arial"/>
                    </a:rPr>
                    <a:t>du promoteur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" name=""/>
            <p:cNvSpPr/>
            <p:nvPr/>
          </p:nvSpPr>
          <p:spPr>
            <a:xfrm>
              <a:off x="4795920" y="4230720"/>
              <a:ext cx="1687320" cy="7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2400" spc="-1" strike="noStrike">
                  <a:solidFill>
                    <a:srgbClr val="015cab"/>
                  </a:solidFill>
                  <a:latin typeface="Arial"/>
                </a:rPr>
                <a:t>Signature du cont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88960" y="549360"/>
            <a:ext cx="815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15cab"/>
                </a:solidFill>
                <a:latin typeface="Arial"/>
              </a:rPr>
              <a:t>Le cycle d’un projet à la B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B51-067C-48A7-80B6-C1D4128FFDC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B1289-AF07-4716-A1B9-58857AD415BE}" type="datetime1">
              <a:rPr lang="en-US"/>
              <a:t>07/30/26</a:t>
            </a:fld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252360"/>
            <a:ext cx="82072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15cab"/>
                </a:solidFill>
                <a:latin typeface="Arial"/>
              </a:rPr>
              <a:t>La BE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3160" y="3354480"/>
            <a:ext cx="2805120" cy="323640"/>
          </a:xfrm>
          <a:custGeom>
            <a:avLst/>
            <a:gdLst/>
            <a:ahLst/>
            <a:rect l="l" t="t" r="r" b="b"/>
            <a:pathLst>
              <a:path w="2513" h="291">
                <a:moveTo>
                  <a:pt x="2513" y="177"/>
                </a:moveTo>
                <a:lnTo>
                  <a:pt x="2511" y="201"/>
                </a:lnTo>
                <a:lnTo>
                  <a:pt x="2503" y="221"/>
                </a:lnTo>
                <a:lnTo>
                  <a:pt x="2493" y="241"/>
                </a:lnTo>
                <a:lnTo>
                  <a:pt x="2479" y="257"/>
                </a:lnTo>
                <a:lnTo>
                  <a:pt x="2462" y="271"/>
                </a:lnTo>
                <a:lnTo>
                  <a:pt x="2442" y="283"/>
                </a:lnTo>
                <a:lnTo>
                  <a:pt x="2422" y="289"/>
                </a:lnTo>
                <a:lnTo>
                  <a:pt x="2398" y="291"/>
                </a:lnTo>
                <a:lnTo>
                  <a:pt x="115" y="291"/>
                </a:lnTo>
                <a:lnTo>
                  <a:pt x="93" y="289"/>
                </a:lnTo>
                <a:lnTo>
                  <a:pt x="71" y="283"/>
                </a:lnTo>
                <a:lnTo>
                  <a:pt x="51" y="271"/>
                </a:lnTo>
                <a:lnTo>
                  <a:pt x="34" y="257"/>
                </a:lnTo>
                <a:lnTo>
                  <a:pt x="20" y="241"/>
                </a:lnTo>
                <a:lnTo>
                  <a:pt x="10" y="221"/>
                </a:lnTo>
                <a:lnTo>
                  <a:pt x="2" y="201"/>
                </a:lnTo>
                <a:lnTo>
                  <a:pt x="0" y="177"/>
                </a:lnTo>
                <a:lnTo>
                  <a:pt x="0" y="113"/>
                </a:lnTo>
                <a:lnTo>
                  <a:pt x="2" y="92"/>
                </a:lnTo>
                <a:lnTo>
                  <a:pt x="10" y="70"/>
                </a:lnTo>
                <a:lnTo>
                  <a:pt x="20" y="50"/>
                </a:lnTo>
                <a:lnTo>
                  <a:pt x="34" y="34"/>
                </a:lnTo>
                <a:lnTo>
                  <a:pt x="51" y="20"/>
                </a:lnTo>
                <a:lnTo>
                  <a:pt x="71" y="10"/>
                </a:lnTo>
                <a:lnTo>
                  <a:pt x="93" y="4"/>
                </a:lnTo>
                <a:lnTo>
                  <a:pt x="115" y="0"/>
                </a:lnTo>
                <a:lnTo>
                  <a:pt x="2398" y="0"/>
                </a:lnTo>
                <a:lnTo>
                  <a:pt x="2422" y="4"/>
                </a:lnTo>
                <a:lnTo>
                  <a:pt x="2442" y="10"/>
                </a:lnTo>
                <a:lnTo>
                  <a:pt x="2462" y="20"/>
                </a:lnTo>
                <a:lnTo>
                  <a:pt x="2479" y="34"/>
                </a:lnTo>
                <a:lnTo>
                  <a:pt x="2493" y="50"/>
                </a:lnTo>
                <a:lnTo>
                  <a:pt x="2503" y="70"/>
                </a:lnTo>
                <a:lnTo>
                  <a:pt x="2511" y="92"/>
                </a:lnTo>
                <a:lnTo>
                  <a:pt x="2513" y="113"/>
                </a:lnTo>
                <a:lnTo>
                  <a:pt x="2513" y="177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21200" y="1792440"/>
            <a:ext cx="966960" cy="422280"/>
          </a:xfrm>
          <a:custGeom>
            <a:avLst/>
            <a:gdLst/>
            <a:ahLst/>
            <a:rect l="l" t="t" r="r" b="b"/>
            <a:pathLst>
              <a:path w="867" h="379">
                <a:moveTo>
                  <a:pt x="867" y="268"/>
                </a:moveTo>
                <a:lnTo>
                  <a:pt x="863" y="289"/>
                </a:lnTo>
                <a:lnTo>
                  <a:pt x="857" y="311"/>
                </a:lnTo>
                <a:lnTo>
                  <a:pt x="847" y="329"/>
                </a:lnTo>
                <a:lnTo>
                  <a:pt x="832" y="347"/>
                </a:lnTo>
                <a:lnTo>
                  <a:pt x="816" y="361"/>
                </a:lnTo>
                <a:lnTo>
                  <a:pt x="796" y="371"/>
                </a:lnTo>
                <a:lnTo>
                  <a:pt x="774" y="377"/>
                </a:lnTo>
                <a:lnTo>
                  <a:pt x="752" y="379"/>
                </a:lnTo>
                <a:lnTo>
                  <a:pt x="113" y="379"/>
                </a:lnTo>
                <a:lnTo>
                  <a:pt x="90" y="377"/>
                </a:lnTo>
                <a:lnTo>
                  <a:pt x="68" y="371"/>
                </a:lnTo>
                <a:lnTo>
                  <a:pt x="50" y="361"/>
                </a:lnTo>
                <a:lnTo>
                  <a:pt x="32" y="347"/>
                </a:lnTo>
                <a:lnTo>
                  <a:pt x="18" y="329"/>
                </a:lnTo>
                <a:lnTo>
                  <a:pt x="8" y="311"/>
                </a:lnTo>
                <a:lnTo>
                  <a:pt x="2" y="289"/>
                </a:lnTo>
                <a:lnTo>
                  <a:pt x="0" y="268"/>
                </a:lnTo>
                <a:lnTo>
                  <a:pt x="0" y="114"/>
                </a:lnTo>
                <a:lnTo>
                  <a:pt x="2" y="90"/>
                </a:lnTo>
                <a:lnTo>
                  <a:pt x="8" y="70"/>
                </a:lnTo>
                <a:lnTo>
                  <a:pt x="18" y="50"/>
                </a:lnTo>
                <a:lnTo>
                  <a:pt x="32" y="34"/>
                </a:lnTo>
                <a:lnTo>
                  <a:pt x="50" y="20"/>
                </a:lnTo>
                <a:lnTo>
                  <a:pt x="68" y="8"/>
                </a:lnTo>
                <a:lnTo>
                  <a:pt x="90" y="2"/>
                </a:lnTo>
                <a:lnTo>
                  <a:pt x="113" y="0"/>
                </a:lnTo>
                <a:lnTo>
                  <a:pt x="752" y="0"/>
                </a:lnTo>
                <a:lnTo>
                  <a:pt x="774" y="2"/>
                </a:lnTo>
                <a:lnTo>
                  <a:pt x="796" y="8"/>
                </a:lnTo>
                <a:lnTo>
                  <a:pt x="816" y="20"/>
                </a:lnTo>
                <a:lnTo>
                  <a:pt x="832" y="34"/>
                </a:lnTo>
                <a:lnTo>
                  <a:pt x="847" y="50"/>
                </a:lnTo>
                <a:lnTo>
                  <a:pt x="857" y="70"/>
                </a:lnTo>
                <a:lnTo>
                  <a:pt x="863" y="90"/>
                </a:lnTo>
                <a:lnTo>
                  <a:pt x="867" y="114"/>
                </a:lnTo>
                <a:lnTo>
                  <a:pt x="867" y="268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49760" y="1076400"/>
            <a:ext cx="1566720" cy="684000"/>
          </a:xfrm>
          <a:custGeom>
            <a:avLst/>
            <a:gdLst/>
            <a:ahLst/>
            <a:rect l="l" t="t" r="r" b="b"/>
            <a:pathLst>
              <a:path w="1403" h="613">
                <a:moveTo>
                  <a:pt x="1403" y="499"/>
                </a:moveTo>
                <a:lnTo>
                  <a:pt x="1401" y="523"/>
                </a:lnTo>
                <a:lnTo>
                  <a:pt x="1395" y="543"/>
                </a:lnTo>
                <a:lnTo>
                  <a:pt x="1383" y="563"/>
                </a:lnTo>
                <a:lnTo>
                  <a:pt x="1369" y="579"/>
                </a:lnTo>
                <a:lnTo>
                  <a:pt x="1352" y="593"/>
                </a:lnTo>
                <a:lnTo>
                  <a:pt x="1332" y="605"/>
                </a:lnTo>
                <a:lnTo>
                  <a:pt x="1312" y="611"/>
                </a:lnTo>
                <a:lnTo>
                  <a:pt x="1288" y="613"/>
                </a:lnTo>
                <a:lnTo>
                  <a:pt x="115" y="613"/>
                </a:lnTo>
                <a:lnTo>
                  <a:pt x="91" y="611"/>
                </a:lnTo>
                <a:lnTo>
                  <a:pt x="71" y="605"/>
                </a:lnTo>
                <a:lnTo>
                  <a:pt x="50" y="593"/>
                </a:lnTo>
                <a:lnTo>
                  <a:pt x="34" y="579"/>
                </a:lnTo>
                <a:lnTo>
                  <a:pt x="20" y="563"/>
                </a:lnTo>
                <a:lnTo>
                  <a:pt x="8" y="543"/>
                </a:lnTo>
                <a:lnTo>
                  <a:pt x="2" y="523"/>
                </a:lnTo>
                <a:lnTo>
                  <a:pt x="0" y="499"/>
                </a:lnTo>
                <a:lnTo>
                  <a:pt x="0" y="114"/>
                </a:lnTo>
                <a:lnTo>
                  <a:pt x="2" y="90"/>
                </a:lnTo>
                <a:lnTo>
                  <a:pt x="8" y="70"/>
                </a:lnTo>
                <a:lnTo>
                  <a:pt x="20" y="50"/>
                </a:lnTo>
                <a:lnTo>
                  <a:pt x="34" y="34"/>
                </a:lnTo>
                <a:lnTo>
                  <a:pt x="50" y="20"/>
                </a:lnTo>
                <a:lnTo>
                  <a:pt x="71" y="8"/>
                </a:lnTo>
                <a:lnTo>
                  <a:pt x="91" y="2"/>
                </a:lnTo>
                <a:lnTo>
                  <a:pt x="115" y="0"/>
                </a:lnTo>
                <a:lnTo>
                  <a:pt x="1288" y="0"/>
                </a:lnTo>
                <a:lnTo>
                  <a:pt x="1312" y="2"/>
                </a:lnTo>
                <a:lnTo>
                  <a:pt x="1332" y="8"/>
                </a:lnTo>
                <a:lnTo>
                  <a:pt x="1352" y="20"/>
                </a:lnTo>
                <a:lnTo>
                  <a:pt x="1369" y="34"/>
                </a:lnTo>
                <a:lnTo>
                  <a:pt x="1383" y="50"/>
                </a:lnTo>
                <a:lnTo>
                  <a:pt x="1395" y="70"/>
                </a:lnTo>
                <a:lnTo>
                  <a:pt x="1401" y="90"/>
                </a:lnTo>
                <a:lnTo>
                  <a:pt x="1403" y="114"/>
                </a:lnTo>
                <a:lnTo>
                  <a:pt x="1403" y="499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68680" y="2060640"/>
            <a:ext cx="1978200" cy="709560"/>
          </a:xfrm>
          <a:custGeom>
            <a:avLst/>
            <a:gdLst/>
            <a:ahLst/>
            <a:rect l="l" t="t" r="r" b="b"/>
            <a:pathLst>
              <a:path w="1771" h="637">
                <a:moveTo>
                  <a:pt x="1771" y="319"/>
                </a:moveTo>
                <a:lnTo>
                  <a:pt x="1769" y="335"/>
                </a:lnTo>
                <a:lnTo>
                  <a:pt x="1767" y="351"/>
                </a:lnTo>
                <a:lnTo>
                  <a:pt x="1761" y="367"/>
                </a:lnTo>
                <a:lnTo>
                  <a:pt x="1753" y="383"/>
                </a:lnTo>
                <a:lnTo>
                  <a:pt x="1743" y="399"/>
                </a:lnTo>
                <a:lnTo>
                  <a:pt x="1731" y="413"/>
                </a:lnTo>
                <a:lnTo>
                  <a:pt x="1717" y="429"/>
                </a:lnTo>
                <a:lnTo>
                  <a:pt x="1700" y="443"/>
                </a:lnTo>
                <a:lnTo>
                  <a:pt x="1684" y="457"/>
                </a:lnTo>
                <a:lnTo>
                  <a:pt x="1664" y="471"/>
                </a:lnTo>
                <a:lnTo>
                  <a:pt x="1642" y="483"/>
                </a:lnTo>
                <a:lnTo>
                  <a:pt x="1620" y="497"/>
                </a:lnTo>
                <a:lnTo>
                  <a:pt x="1569" y="521"/>
                </a:lnTo>
                <a:lnTo>
                  <a:pt x="1512" y="543"/>
                </a:lnTo>
                <a:lnTo>
                  <a:pt x="1450" y="565"/>
                </a:lnTo>
                <a:lnTo>
                  <a:pt x="1381" y="583"/>
                </a:lnTo>
                <a:lnTo>
                  <a:pt x="1308" y="599"/>
                </a:lnTo>
                <a:lnTo>
                  <a:pt x="1231" y="613"/>
                </a:lnTo>
                <a:lnTo>
                  <a:pt x="1148" y="623"/>
                </a:lnTo>
                <a:lnTo>
                  <a:pt x="1064" y="631"/>
                </a:lnTo>
                <a:lnTo>
                  <a:pt x="977" y="635"/>
                </a:lnTo>
                <a:lnTo>
                  <a:pt x="886" y="637"/>
                </a:lnTo>
                <a:lnTo>
                  <a:pt x="795" y="635"/>
                </a:lnTo>
                <a:lnTo>
                  <a:pt x="708" y="631"/>
                </a:lnTo>
                <a:lnTo>
                  <a:pt x="623" y="623"/>
                </a:lnTo>
                <a:lnTo>
                  <a:pt x="542" y="613"/>
                </a:lnTo>
                <a:lnTo>
                  <a:pt x="463" y="599"/>
                </a:lnTo>
                <a:lnTo>
                  <a:pt x="390" y="583"/>
                </a:lnTo>
                <a:lnTo>
                  <a:pt x="324" y="565"/>
                </a:lnTo>
                <a:lnTo>
                  <a:pt x="261" y="543"/>
                </a:lnTo>
                <a:lnTo>
                  <a:pt x="202" y="521"/>
                </a:lnTo>
                <a:lnTo>
                  <a:pt x="152" y="497"/>
                </a:lnTo>
                <a:lnTo>
                  <a:pt x="130" y="483"/>
                </a:lnTo>
                <a:lnTo>
                  <a:pt x="107" y="471"/>
                </a:lnTo>
                <a:lnTo>
                  <a:pt x="89" y="457"/>
                </a:lnTo>
                <a:lnTo>
                  <a:pt x="71" y="443"/>
                </a:lnTo>
                <a:lnTo>
                  <a:pt x="55" y="429"/>
                </a:lnTo>
                <a:lnTo>
                  <a:pt x="41" y="413"/>
                </a:lnTo>
                <a:lnTo>
                  <a:pt x="28" y="399"/>
                </a:lnTo>
                <a:lnTo>
                  <a:pt x="18" y="383"/>
                </a:lnTo>
                <a:lnTo>
                  <a:pt x="10" y="367"/>
                </a:lnTo>
                <a:lnTo>
                  <a:pt x="6" y="351"/>
                </a:lnTo>
                <a:lnTo>
                  <a:pt x="2" y="335"/>
                </a:lnTo>
                <a:lnTo>
                  <a:pt x="0" y="319"/>
                </a:lnTo>
                <a:lnTo>
                  <a:pt x="2" y="301"/>
                </a:lnTo>
                <a:lnTo>
                  <a:pt x="6" y="285"/>
                </a:lnTo>
                <a:lnTo>
                  <a:pt x="10" y="269"/>
                </a:lnTo>
                <a:lnTo>
                  <a:pt x="18" y="253"/>
                </a:lnTo>
                <a:lnTo>
                  <a:pt x="28" y="239"/>
                </a:lnTo>
                <a:lnTo>
                  <a:pt x="41" y="223"/>
                </a:lnTo>
                <a:lnTo>
                  <a:pt x="55" y="209"/>
                </a:lnTo>
                <a:lnTo>
                  <a:pt x="71" y="195"/>
                </a:lnTo>
                <a:lnTo>
                  <a:pt x="89" y="179"/>
                </a:lnTo>
                <a:lnTo>
                  <a:pt x="107" y="167"/>
                </a:lnTo>
                <a:lnTo>
                  <a:pt x="130" y="153"/>
                </a:lnTo>
                <a:lnTo>
                  <a:pt x="152" y="139"/>
                </a:lnTo>
                <a:lnTo>
                  <a:pt x="202" y="115"/>
                </a:lnTo>
                <a:lnTo>
                  <a:pt x="261" y="93"/>
                </a:lnTo>
                <a:lnTo>
                  <a:pt x="324" y="73"/>
                </a:lnTo>
                <a:lnTo>
                  <a:pt x="390" y="53"/>
                </a:lnTo>
                <a:lnTo>
                  <a:pt x="463" y="38"/>
                </a:lnTo>
                <a:lnTo>
                  <a:pt x="542" y="26"/>
                </a:lnTo>
                <a:lnTo>
                  <a:pt x="623" y="14"/>
                </a:lnTo>
                <a:lnTo>
                  <a:pt x="708" y="6"/>
                </a:lnTo>
                <a:lnTo>
                  <a:pt x="795" y="2"/>
                </a:lnTo>
                <a:lnTo>
                  <a:pt x="886" y="0"/>
                </a:lnTo>
                <a:lnTo>
                  <a:pt x="977" y="2"/>
                </a:lnTo>
                <a:lnTo>
                  <a:pt x="1064" y="6"/>
                </a:lnTo>
                <a:lnTo>
                  <a:pt x="1148" y="14"/>
                </a:lnTo>
                <a:lnTo>
                  <a:pt x="1231" y="26"/>
                </a:lnTo>
                <a:lnTo>
                  <a:pt x="1308" y="38"/>
                </a:lnTo>
                <a:lnTo>
                  <a:pt x="1381" y="53"/>
                </a:lnTo>
                <a:lnTo>
                  <a:pt x="1450" y="73"/>
                </a:lnTo>
                <a:lnTo>
                  <a:pt x="1512" y="93"/>
                </a:lnTo>
                <a:lnTo>
                  <a:pt x="1569" y="115"/>
                </a:lnTo>
                <a:lnTo>
                  <a:pt x="1620" y="139"/>
                </a:lnTo>
                <a:lnTo>
                  <a:pt x="1642" y="153"/>
                </a:lnTo>
                <a:lnTo>
                  <a:pt x="1664" y="167"/>
                </a:lnTo>
                <a:lnTo>
                  <a:pt x="1684" y="179"/>
                </a:lnTo>
                <a:lnTo>
                  <a:pt x="1700" y="195"/>
                </a:lnTo>
                <a:lnTo>
                  <a:pt x="1717" y="209"/>
                </a:lnTo>
                <a:lnTo>
                  <a:pt x="1731" y="223"/>
                </a:lnTo>
                <a:lnTo>
                  <a:pt x="1743" y="239"/>
                </a:lnTo>
                <a:lnTo>
                  <a:pt x="1753" y="253"/>
                </a:lnTo>
                <a:lnTo>
                  <a:pt x="1761" y="269"/>
                </a:lnTo>
                <a:lnTo>
                  <a:pt x="1767" y="285"/>
                </a:lnTo>
                <a:lnTo>
                  <a:pt x="1769" y="301"/>
                </a:lnTo>
                <a:lnTo>
                  <a:pt x="1771" y="319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508640"/>
            <a:ext cx="3749760" cy="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00" y="5114880"/>
            <a:ext cx="1204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Insp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Généra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(Audit inter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et Évalu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des opérations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102280"/>
            <a:ext cx="750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Technologies</a:t>
            </a:r>
            <a:br>
              <a:rPr sz="1100"/>
            </a:br>
            <a:r>
              <a:rPr b="0" lang="fr-FR" sz="1100" spc="-1" strike="noStrike">
                <a:solidFill>
                  <a:srgbClr val="003f71"/>
                </a:solidFill>
                <a:latin typeface="Arial"/>
                <a:ea typeface="Times New Roman"/>
              </a:rPr>
              <a:t>de l’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65880" y="1225440"/>
            <a:ext cx="957240" cy="424080"/>
          </a:xfrm>
          <a:custGeom>
            <a:avLst/>
            <a:gdLst/>
            <a:ahLst/>
            <a:rect l="l" t="t" r="r" b="b"/>
            <a:pathLst>
              <a:path w="857" h="379">
                <a:moveTo>
                  <a:pt x="0" y="70"/>
                </a:moveTo>
                <a:lnTo>
                  <a:pt x="229" y="0"/>
                </a:lnTo>
                <a:lnTo>
                  <a:pt x="196" y="52"/>
                </a:lnTo>
                <a:lnTo>
                  <a:pt x="239" y="48"/>
                </a:lnTo>
                <a:lnTo>
                  <a:pt x="283" y="46"/>
                </a:lnTo>
                <a:lnTo>
                  <a:pt x="338" y="46"/>
                </a:lnTo>
                <a:lnTo>
                  <a:pt x="396" y="46"/>
                </a:lnTo>
                <a:lnTo>
                  <a:pt x="455" y="50"/>
                </a:lnTo>
                <a:lnTo>
                  <a:pt x="483" y="52"/>
                </a:lnTo>
                <a:lnTo>
                  <a:pt x="508" y="58"/>
                </a:lnTo>
                <a:lnTo>
                  <a:pt x="532" y="64"/>
                </a:lnTo>
                <a:lnTo>
                  <a:pt x="552" y="70"/>
                </a:lnTo>
                <a:lnTo>
                  <a:pt x="592" y="88"/>
                </a:lnTo>
                <a:lnTo>
                  <a:pt x="637" y="112"/>
                </a:lnTo>
                <a:lnTo>
                  <a:pt x="681" y="140"/>
                </a:lnTo>
                <a:lnTo>
                  <a:pt x="704" y="156"/>
                </a:lnTo>
                <a:lnTo>
                  <a:pt x="726" y="173"/>
                </a:lnTo>
                <a:lnTo>
                  <a:pt x="748" y="193"/>
                </a:lnTo>
                <a:lnTo>
                  <a:pt x="768" y="215"/>
                </a:lnTo>
                <a:lnTo>
                  <a:pt x="789" y="237"/>
                </a:lnTo>
                <a:lnTo>
                  <a:pt x="805" y="261"/>
                </a:lnTo>
                <a:lnTo>
                  <a:pt x="821" y="289"/>
                </a:lnTo>
                <a:lnTo>
                  <a:pt x="835" y="317"/>
                </a:lnTo>
                <a:lnTo>
                  <a:pt x="847" y="347"/>
                </a:lnTo>
                <a:lnTo>
                  <a:pt x="857" y="379"/>
                </a:lnTo>
                <a:lnTo>
                  <a:pt x="685" y="379"/>
                </a:lnTo>
                <a:lnTo>
                  <a:pt x="685" y="359"/>
                </a:lnTo>
                <a:lnTo>
                  <a:pt x="683" y="339"/>
                </a:lnTo>
                <a:lnTo>
                  <a:pt x="681" y="315"/>
                </a:lnTo>
                <a:lnTo>
                  <a:pt x="677" y="289"/>
                </a:lnTo>
                <a:lnTo>
                  <a:pt x="669" y="263"/>
                </a:lnTo>
                <a:lnTo>
                  <a:pt x="665" y="251"/>
                </a:lnTo>
                <a:lnTo>
                  <a:pt x="659" y="239"/>
                </a:lnTo>
                <a:lnTo>
                  <a:pt x="651" y="229"/>
                </a:lnTo>
                <a:lnTo>
                  <a:pt x="645" y="221"/>
                </a:lnTo>
                <a:lnTo>
                  <a:pt x="625" y="201"/>
                </a:lnTo>
                <a:lnTo>
                  <a:pt x="603" y="181"/>
                </a:lnTo>
                <a:lnTo>
                  <a:pt x="574" y="160"/>
                </a:lnTo>
                <a:lnTo>
                  <a:pt x="540" y="138"/>
                </a:lnTo>
                <a:lnTo>
                  <a:pt x="522" y="128"/>
                </a:lnTo>
                <a:lnTo>
                  <a:pt x="501" y="118"/>
                </a:lnTo>
                <a:lnTo>
                  <a:pt x="479" y="110"/>
                </a:lnTo>
                <a:lnTo>
                  <a:pt x="457" y="102"/>
                </a:lnTo>
                <a:lnTo>
                  <a:pt x="433" y="96"/>
                </a:lnTo>
                <a:lnTo>
                  <a:pt x="406" y="92"/>
                </a:lnTo>
                <a:lnTo>
                  <a:pt x="378" y="90"/>
                </a:lnTo>
                <a:lnTo>
                  <a:pt x="350" y="88"/>
                </a:lnTo>
                <a:lnTo>
                  <a:pt x="190" y="88"/>
                </a:lnTo>
                <a:lnTo>
                  <a:pt x="220" y="154"/>
                </a:lnTo>
                <a:lnTo>
                  <a:pt x="0" y="7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28000" y="5068800"/>
            <a:ext cx="9302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Direction de la gestion des risq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5146560"/>
            <a:ext cx="1071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Direction des Financements</a:t>
            </a:r>
            <a:br>
              <a:rPr sz="1100"/>
            </a:b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en 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6560" y="5126040"/>
            <a:ext cx="11206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Direction des Financements hors 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80280" y="5126040"/>
            <a:ext cx="906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1100" spc="-1" strike="noStrike">
                <a:solidFill>
                  <a:srgbClr val="003f71"/>
                </a:solidFill>
                <a:latin typeface="Arial"/>
              </a:rPr>
              <a:t>Direction</a:t>
            </a:r>
            <a:br>
              <a:rPr sz="1100"/>
            </a:br>
            <a:r>
              <a:rPr b="0" lang="en-GB" sz="1100" spc="-1" strike="noStrike">
                <a:solidFill>
                  <a:srgbClr val="003f71"/>
                </a:solidFill>
                <a:latin typeface="Arial"/>
              </a:rPr>
              <a:t>des Fin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84880" y="5145120"/>
            <a:ext cx="798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Direction</a:t>
            </a:r>
            <a:br>
              <a:rPr sz="1100"/>
            </a:b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des Proje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5640" y="3376440"/>
            <a:ext cx="282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omité de dir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3733920"/>
            <a:ext cx="1625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400" spc="-1" strike="noStrike">
                <a:solidFill>
                  <a:srgbClr val="003f71"/>
                </a:solidFill>
                <a:latin typeface="Arial"/>
                <a:ea typeface="Times New Roman"/>
              </a:rPr>
              <a:t>Prés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400" spc="-1" strike="noStrike">
                <a:solidFill>
                  <a:srgbClr val="003f71"/>
                </a:solidFill>
                <a:latin typeface="Arial"/>
                <a:ea typeface="Times New Roman"/>
              </a:rPr>
              <a:t>8 Vice-présid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0960" y="2798640"/>
            <a:ext cx="1366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400" spc="-1" strike="noStrike">
                <a:solidFill>
                  <a:srgbClr val="003f71"/>
                </a:solidFill>
                <a:latin typeface="Arial"/>
              </a:rPr>
              <a:t>28 administr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400" spc="-1" strike="noStrike">
                <a:solidFill>
                  <a:srgbClr val="003f71"/>
                </a:solidFill>
                <a:latin typeface="Arial"/>
              </a:rPr>
              <a:t>18 supplé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400" spc="-1" strike="noStrike">
                <a:solidFill>
                  <a:srgbClr val="003f71"/>
                </a:solidFill>
                <a:latin typeface="Arial"/>
              </a:rPr>
              <a:t>+ 6 exp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94240" y="2092320"/>
            <a:ext cx="19526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onseil d’Admin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92680" y="1771560"/>
            <a:ext cx="1263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ité de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ér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38680" y="1071720"/>
            <a:ext cx="14223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Conseil des</a:t>
            </a:r>
            <a:br>
              <a:rPr sz="1700"/>
            </a:b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Gouverneu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17880" y="1760400"/>
            <a:ext cx="1231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400" spc="-1" strike="noStrike">
                <a:solidFill>
                  <a:srgbClr val="003f71"/>
                </a:solidFill>
                <a:latin typeface="Arial"/>
              </a:rPr>
              <a:t>27 mem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41440" y="5084640"/>
            <a:ext cx="703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Dir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Générale de 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Stratég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4360" y="4498560"/>
            <a:ext cx="3655800" cy="972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27560" y="4124160"/>
            <a:ext cx="0" cy="37476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788000" y="4149720"/>
            <a:ext cx="9360" cy="3888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4221000"/>
            <a:ext cx="1427040" cy="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46400" y="3970440"/>
            <a:ext cx="699840" cy="411120"/>
          </a:xfrm>
          <a:custGeom>
            <a:avLst/>
            <a:gdLst/>
            <a:ahLst/>
            <a:rect l="l" t="t" r="r" b="b"/>
            <a:pathLst>
              <a:path w="628" h="369">
                <a:moveTo>
                  <a:pt x="628" y="185"/>
                </a:moveTo>
                <a:lnTo>
                  <a:pt x="626" y="203"/>
                </a:lnTo>
                <a:lnTo>
                  <a:pt x="622" y="221"/>
                </a:lnTo>
                <a:lnTo>
                  <a:pt x="614" y="239"/>
                </a:lnTo>
                <a:lnTo>
                  <a:pt x="604" y="257"/>
                </a:lnTo>
                <a:lnTo>
                  <a:pt x="590" y="273"/>
                </a:lnTo>
                <a:lnTo>
                  <a:pt x="574" y="287"/>
                </a:lnTo>
                <a:lnTo>
                  <a:pt x="556" y="301"/>
                </a:lnTo>
                <a:lnTo>
                  <a:pt x="535" y="315"/>
                </a:lnTo>
                <a:lnTo>
                  <a:pt x="513" y="327"/>
                </a:lnTo>
                <a:lnTo>
                  <a:pt x="489" y="337"/>
                </a:lnTo>
                <a:lnTo>
                  <a:pt x="465" y="347"/>
                </a:lnTo>
                <a:lnTo>
                  <a:pt x="436" y="355"/>
                </a:lnTo>
                <a:lnTo>
                  <a:pt x="408" y="361"/>
                </a:lnTo>
                <a:lnTo>
                  <a:pt x="378" y="365"/>
                </a:lnTo>
                <a:lnTo>
                  <a:pt x="347" y="369"/>
                </a:lnTo>
                <a:lnTo>
                  <a:pt x="315" y="369"/>
                </a:lnTo>
                <a:lnTo>
                  <a:pt x="283" y="369"/>
                </a:lnTo>
                <a:lnTo>
                  <a:pt x="250" y="365"/>
                </a:lnTo>
                <a:lnTo>
                  <a:pt x="222" y="361"/>
                </a:lnTo>
                <a:lnTo>
                  <a:pt x="192" y="355"/>
                </a:lnTo>
                <a:lnTo>
                  <a:pt x="165" y="347"/>
                </a:lnTo>
                <a:lnTo>
                  <a:pt x="139" y="337"/>
                </a:lnTo>
                <a:lnTo>
                  <a:pt x="115" y="327"/>
                </a:lnTo>
                <a:lnTo>
                  <a:pt x="93" y="315"/>
                </a:lnTo>
                <a:lnTo>
                  <a:pt x="72" y="301"/>
                </a:lnTo>
                <a:lnTo>
                  <a:pt x="54" y="287"/>
                </a:lnTo>
                <a:lnTo>
                  <a:pt x="38" y="273"/>
                </a:lnTo>
                <a:lnTo>
                  <a:pt x="26" y="257"/>
                </a:lnTo>
                <a:lnTo>
                  <a:pt x="14" y="239"/>
                </a:lnTo>
                <a:lnTo>
                  <a:pt x="8" y="221"/>
                </a:lnTo>
                <a:lnTo>
                  <a:pt x="2" y="203"/>
                </a:lnTo>
                <a:lnTo>
                  <a:pt x="0" y="185"/>
                </a:lnTo>
                <a:lnTo>
                  <a:pt x="2" y="165"/>
                </a:lnTo>
                <a:lnTo>
                  <a:pt x="8" y="147"/>
                </a:lnTo>
                <a:lnTo>
                  <a:pt x="14" y="129"/>
                </a:lnTo>
                <a:lnTo>
                  <a:pt x="26" y="113"/>
                </a:lnTo>
                <a:lnTo>
                  <a:pt x="38" y="97"/>
                </a:lnTo>
                <a:lnTo>
                  <a:pt x="54" y="81"/>
                </a:lnTo>
                <a:lnTo>
                  <a:pt x="72" y="67"/>
                </a:lnTo>
                <a:lnTo>
                  <a:pt x="93" y="54"/>
                </a:lnTo>
                <a:lnTo>
                  <a:pt x="115" y="42"/>
                </a:lnTo>
                <a:lnTo>
                  <a:pt x="139" y="32"/>
                </a:lnTo>
                <a:lnTo>
                  <a:pt x="165" y="24"/>
                </a:lnTo>
                <a:lnTo>
                  <a:pt x="192" y="16"/>
                </a:lnTo>
                <a:lnTo>
                  <a:pt x="222" y="10"/>
                </a:lnTo>
                <a:lnTo>
                  <a:pt x="250" y="4"/>
                </a:lnTo>
                <a:lnTo>
                  <a:pt x="283" y="2"/>
                </a:lnTo>
                <a:lnTo>
                  <a:pt x="315" y="0"/>
                </a:lnTo>
                <a:lnTo>
                  <a:pt x="347" y="2"/>
                </a:lnTo>
                <a:lnTo>
                  <a:pt x="378" y="4"/>
                </a:lnTo>
                <a:lnTo>
                  <a:pt x="408" y="10"/>
                </a:lnTo>
                <a:lnTo>
                  <a:pt x="436" y="16"/>
                </a:lnTo>
                <a:lnTo>
                  <a:pt x="465" y="24"/>
                </a:lnTo>
                <a:lnTo>
                  <a:pt x="489" y="32"/>
                </a:lnTo>
                <a:lnTo>
                  <a:pt x="513" y="42"/>
                </a:lnTo>
                <a:lnTo>
                  <a:pt x="535" y="54"/>
                </a:lnTo>
                <a:lnTo>
                  <a:pt x="556" y="67"/>
                </a:lnTo>
                <a:lnTo>
                  <a:pt x="574" y="81"/>
                </a:lnTo>
                <a:lnTo>
                  <a:pt x="590" y="97"/>
                </a:lnTo>
                <a:lnTo>
                  <a:pt x="604" y="113"/>
                </a:lnTo>
                <a:lnTo>
                  <a:pt x="614" y="129"/>
                </a:lnTo>
                <a:lnTo>
                  <a:pt x="622" y="147"/>
                </a:lnTo>
                <a:lnTo>
                  <a:pt x="626" y="165"/>
                </a:lnTo>
                <a:lnTo>
                  <a:pt x="628" y="185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267640" y="4076640"/>
            <a:ext cx="576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O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084640"/>
            <a:ext cx="93672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Secrétariat</a:t>
            </a:r>
            <a:br>
              <a:rPr sz="1100"/>
            </a:b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géné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Affaires</a:t>
            </a:r>
            <a:br>
              <a:rPr sz="1100"/>
            </a:b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juridiq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100" spc="-1" strike="noStrike">
                <a:solidFill>
                  <a:srgbClr val="003f71"/>
                </a:solidFill>
                <a:latin typeface="Arial"/>
              </a:rPr>
              <a:t>Ressources huma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653000"/>
            <a:ext cx="79200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4653000"/>
            <a:ext cx="79200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2908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4653000"/>
            <a:ext cx="79236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S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653000"/>
            <a:ext cx="107928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SG-JU-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3272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72360" y="4653000"/>
            <a:ext cx="72072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C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0560" y="4653000"/>
            <a:ext cx="72072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Op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450864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4653000"/>
            <a:ext cx="72072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Op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449280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16720" y="4653000"/>
            <a:ext cx="72072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9080" y="4492800"/>
            <a:ext cx="0" cy="133200"/>
          </a:xfrm>
          <a:prstGeom prst="line">
            <a:avLst/>
          </a:prstGeom>
          <a:ln w="41400">
            <a:solidFill>
              <a:srgbClr val="000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8720" y="4653000"/>
            <a:ext cx="720720" cy="307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71"/>
                </a:solidFill>
                <a:latin typeface="Arial"/>
              </a:rPr>
              <a:t>P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nque européenne d'investisseme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1E1-796D-487B-8842-F99D3488334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90B98-8A82-4E42-B1AE-862C8F0F7B18}" type="datetime1">
              <a:rPr lang="en-US"/>
              <a:t>07/30/26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Lycée Technique Joseph Bech</cp:lastModifiedBy>
  <dcterms:modified xsi:type="dcterms:W3CDTF">2007-10-08T09:44:05Z</dcterms:modified>
  <cp:revision>136</cp:revision>
  <dc:subject/>
  <dc:title>PowerPoint Presentation</dc:title>
</cp:coreProperties>
</file>